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DCA-9348-4C66-A91D-CB57DA8B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688-586A-4E6F-8C02-70673D8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E30-41A3-4D33-9BA0-A3B491FB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F3D-EF56-45C4-8096-5790C290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878-36EB-4A49-9CDF-D6F9F998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480-1F4D-4D39-850C-BF5DB34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E1E-5A23-47A3-836C-14DBA98F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0EB-68C9-4114-A25B-FEE44C9A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14C-FFB3-4960-B62C-1F26B19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236-3E8A-40C7-AC54-BFD137D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AA7-A546-470F-8A15-74C7A1FA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D6B-6A21-4225-90A8-FB3C65B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8C89-B9A5-437E-B667-5B797F5B1DD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c00000"/>
                </a:solidFill>
                <a:latin typeface="Calibri"/>
              </a:rPr>
              <a:t>CONSUMO RESPONS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40399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14280"/>
            <a:ext cx="4041720" cy="64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sysDot"/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8T17:58:05Z</dcterms:created>
  <dc:creator>Usuario</dc:creator>
  <dc:description/>
  <dc:language>en-US</dc:language>
  <cp:lastModifiedBy>Usuario</cp:lastModifiedBy>
  <dcterms:modified xsi:type="dcterms:W3CDTF">2015-07-18T18:04:04Z</dcterms:modified>
  <cp:revision>1</cp:revision>
  <dc:subject/>
  <dc:title>CONSUMO RESPONSABLE</dc:title>
</cp:coreProperties>
</file>