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8EA-B668-413D-8DC2-D9C7BE8C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D03-EAA0-4494-A374-B19821D3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744-691C-4D1B-8A3D-81E97FFC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3B9-6EEE-4465-AFDC-E5AFC172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0CB-4FA7-4425-B940-17C59043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9B8-1A59-4629-82C3-0402DD6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677-7C91-41EA-A38D-A4D4D71F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653-7C56-4F8B-BF65-4344D1A5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8FE-5899-4E03-9CB6-11DC8B2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CD4-6014-45CE-898F-CDE602F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EC6-34D7-4623-AD62-68DF992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CB3-A6DC-4BA4-92CE-6B77C759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6702-E07A-4D23-BA6D-B0A04F343F0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4f6228"/>
                </a:solidFill>
                <a:latin typeface="Calibri"/>
              </a:rPr>
              <a:t>RECLAMACIÓ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4f6228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8T17:58:05Z</dcterms:created>
  <dc:creator>Usuario</dc:creator>
  <dc:description/>
  <dc:language>en-US</dc:language>
  <cp:lastModifiedBy>Usuario</cp:lastModifiedBy>
  <dcterms:modified xsi:type="dcterms:W3CDTF">2015-07-18T18:10:48Z</dcterms:modified>
  <cp:revision>3</cp:revision>
  <dc:subject/>
  <dc:title>CONSUMO RESPONSABLE</dc:title>
</cp:coreProperties>
</file>