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CF69-469A-4563-A343-71C6931B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7B7-FF1F-4EFD-8D9E-9D377831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46E3-AA73-40FA-8346-30CDB166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3A0C-5F07-4832-A03C-C49CC4C2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0ABA-703A-4BF2-B676-CA2491DC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B32B-83CA-472C-97E8-70E797F5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FA22-9F31-41A4-8479-9EBBDCB3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AB8-8C6C-4D0D-B93C-B0A43E6B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EF1C-762D-47A0-A5F0-AD896CE7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E4A-C10D-4F3F-8E9C-D8257EA4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6791-A9FE-4691-B754-8EB31E9E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EF99-54CA-43F9-8E5C-546442B4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13FC-2AD0-4C36-A575-8B781D26C5D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2880" y="0"/>
            <a:ext cx="47865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70c0"/>
                </a:solidFill>
                <a:latin typeface="Calibri"/>
              </a:rPr>
              <a:t>CONSUMO RESPONS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52360" y="714240"/>
            <a:ext cx="1582920" cy="5857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81280" y="2928960"/>
            <a:ext cx="4143240" cy="3643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24 CuadroTexto"/>
          <p:cNvSpPr/>
          <p:nvPr/>
        </p:nvSpPr>
        <p:spPr>
          <a:xfrm>
            <a:off x="523800" y="714240"/>
            <a:ext cx="214308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25 CuadroTexto"/>
          <p:cNvSpPr/>
          <p:nvPr/>
        </p:nvSpPr>
        <p:spPr>
          <a:xfrm>
            <a:off x="523800" y="2714760"/>
            <a:ext cx="214308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26 CuadroTexto"/>
          <p:cNvSpPr/>
          <p:nvPr/>
        </p:nvSpPr>
        <p:spPr>
          <a:xfrm>
            <a:off x="523800" y="4786200"/>
            <a:ext cx="214308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29 CuadroTexto"/>
          <p:cNvSpPr/>
          <p:nvPr/>
        </p:nvSpPr>
        <p:spPr>
          <a:xfrm>
            <a:off x="5310360" y="857160"/>
            <a:ext cx="421452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915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70c0"/>
                </a:solidFill>
                <a:latin typeface="Calibri"/>
              </a:rPr>
              <a:t>CONSUMO RESPONS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952360" y="714240"/>
            <a:ext cx="1582920" cy="5857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881840" y="714240"/>
            <a:ext cx="1643040" cy="5857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24 CuadroTexto"/>
          <p:cNvSpPr/>
          <p:nvPr/>
        </p:nvSpPr>
        <p:spPr>
          <a:xfrm>
            <a:off x="523800" y="714240"/>
            <a:ext cx="214308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5 CuadroTexto"/>
          <p:cNvSpPr/>
          <p:nvPr/>
        </p:nvSpPr>
        <p:spPr>
          <a:xfrm>
            <a:off x="523800" y="2714760"/>
            <a:ext cx="214308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6 CuadroTexto"/>
          <p:cNvSpPr/>
          <p:nvPr/>
        </p:nvSpPr>
        <p:spPr>
          <a:xfrm>
            <a:off x="523800" y="4786200"/>
            <a:ext cx="214308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7 CuadroTexto"/>
          <p:cNvSpPr/>
          <p:nvPr/>
        </p:nvSpPr>
        <p:spPr>
          <a:xfrm>
            <a:off x="5452920" y="714240"/>
            <a:ext cx="214344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8 CuadroTexto"/>
          <p:cNvSpPr/>
          <p:nvPr/>
        </p:nvSpPr>
        <p:spPr>
          <a:xfrm>
            <a:off x="5452920" y="2714760"/>
            <a:ext cx="214344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9 CuadroTexto"/>
          <p:cNvSpPr/>
          <p:nvPr/>
        </p:nvSpPr>
        <p:spPr>
          <a:xfrm>
            <a:off x="5452920" y="4786200"/>
            <a:ext cx="214344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7-18T18:12:44Z</dcterms:modified>
  <cp:revision>6</cp:revision>
  <dc:subject/>
  <dc:title>Impactos sobre a atmosfera</dc:title>
</cp:coreProperties>
</file>