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15C-7441-4557-A422-06E97693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C39-003B-4CDE-97D0-D00963C5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AF9-D677-4879-B916-CF8117A7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9867-724D-40FE-A752-5DF52346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2DC-DB3D-4B26-8117-DEFA6523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489-C13B-4C2D-BEAC-19B4052D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EEA9-16CA-4EA8-A7CD-08F1C6A5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801-D47E-4172-A9CE-582DABEB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6DD-7B17-44DF-A2C8-E9AF87CF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42D-E97E-4750-AD26-A69E37CE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BC5-C1DE-4654-BAA6-CD1950C0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6B6-D89F-47FC-94D4-FA48B294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F0E1-9B8D-4D6B-BE4B-4F78805392A8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A Bandei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A Bandei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7T23:15:25Z</dcterms:modified>
  <cp:revision>9</cp:revision>
  <dc:subject/>
  <dc:title>Impactos sobre a atmosfera</dc:title>
</cp:coreProperties>
</file>