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12C-3AD7-4AC5-9770-9C26BF11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295-FD57-45C6-B94C-4E69DF1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73D-E494-4E7B-9C12-6A5519DD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1C2-16A9-4DD2-8C4E-0C68A3F0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5B7-BBCC-43C3-8D9A-ED6B7174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636-5683-48A3-8D9E-F791CBC7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C28-EF12-4D60-86B7-751ED36C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D3E-6640-48C7-9B66-D03CD4CB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682-5B4B-4DEE-9C6A-F48F3C2B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B5D-169A-4C45-BDD4-D7FD3FE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E84-297E-482C-B066-433FAA7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73D-7707-4ED6-9AA0-1844F7F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BEB6-03F5-45DE-90F5-5B23B073E5FC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Estatuto de Autonomía de Gali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prelimin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I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400" spc="-1" strike="noStrike">
                <a:solidFill>
                  <a:srgbClr val="000000"/>
                </a:solidFill>
                <a:latin typeface="Calibri"/>
              </a:rPr>
              <a:t>Título 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6-17T23:20:03Z</dcterms:modified>
  <cp:revision>12</cp:revision>
  <dc:subject/>
  <dc:title>Impactos sobre a atmosfera</dc:title>
</cp:coreProperties>
</file>