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36D0-9485-48CA-A5D9-A09625DBC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F377-F49E-4658-9896-41A76B71A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1362-C5E3-41BF-A98B-B146D4AAC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C33A-E9B8-4742-989D-CF9D5E7B3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D071-29A1-4050-99CF-DF57E799E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3D9F-601B-4151-9C51-883182C78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8326-3C8E-4939-9883-0160D783C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29C3-9DF9-4514-A29C-ADCFD3362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FD04-ABAE-4717-834E-8099D1A15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7E00-3417-4A9A-B4D6-E9677325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A545-00C1-4C14-BC7A-42529F14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078C-298D-4A5A-9BC1-6E247A8E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FE33B-F19D-4E67-85C9-65C4EF18EA02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4400" spc="-1" strike="noStrike">
                <a:solidFill>
                  <a:srgbClr val="000000"/>
                </a:solidFill>
                <a:latin typeface="Calibri"/>
              </a:rPr>
              <a:t>O Escu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4400" spc="-1" strike="noStrike">
                <a:solidFill>
                  <a:srgbClr val="000000"/>
                </a:solidFill>
                <a:latin typeface="Calibri"/>
              </a:rPr>
              <a:t>O Escu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0T23:57:57Z</dcterms:created>
  <dc:creator>Usuario</dc:creator>
  <dc:description/>
  <dc:language>en-US</dc:language>
  <cp:lastModifiedBy>Usuario</cp:lastModifiedBy>
  <dcterms:modified xsi:type="dcterms:W3CDTF">2015-06-17T23:17:26Z</dcterms:modified>
  <cp:revision>11</cp:revision>
  <dc:subject/>
  <dc:title>Impactos sobre a atmosfera</dc:title>
</cp:coreProperties>
</file>