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28E-E0E7-471F-BCBD-91E79514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A1E-73BB-46DF-849F-F9630D2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3BD-4D5A-4B4F-BDE9-46AC780A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C79-3F47-4407-B096-2E0C4DFF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B9D-1AEA-41A7-8965-C51B70F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6B6-A0CF-436C-96EE-84C0D2A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CD6-EC52-443C-BA7C-ECC8BC47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E79-F8BC-4391-8BB0-FC15AB6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F66-A3B6-4DC3-9FDC-5F855FC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495-1BBE-4F13-8E39-F3C9220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DC6-115D-4EB8-AF53-99098FC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4C1-4464-4FEE-BFB9-FD1FA00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E6C-4A23-444E-ACDE-24BF151B1B6C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Himno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Himno ga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6:31Z</dcterms:modified>
  <cp:revision>10</cp:revision>
  <dc:subject/>
  <dc:title>Impactos sobre a atmosfera</dc:title>
</cp:coreProperties>
</file>