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719-CC4D-48F5-A87C-55B7DFBF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F7A-B1AF-423D-AB75-09C8F98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526-1926-4B37-A207-63E2872E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A14-7CC8-4E85-B900-00547C9A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662-13C2-4017-9D44-41FE66BD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C94-F726-4530-9D60-123119E9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2A7-1CDE-4DBC-948B-4E5D8B8D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B96-0548-4F1F-ABC3-0E82E605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516-FF0D-4AEA-A9AE-4DB0E5C1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5D3-8E0D-4DB5-8651-6B475755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83F-A4D7-46B9-AD88-352C4D8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198-0325-4659-AB30-0500FD2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9DA8-7131-4955-858F-0C210A62E84B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O idioma Ga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O idioma Ga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13:44Z</dcterms:modified>
  <cp:revision>8</cp:revision>
  <dc:subject/>
  <dc:title>Impactos sobre a atmosfera</dc:title>
</cp:coreProperties>
</file>