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368-8F13-4E19-A46A-344F1C21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7BD-ED11-4347-9E88-B8F72033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43D-DD2D-4157-A322-0BCDDDE9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67E-55D8-418A-825A-3BFC3433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BD92-844D-42AB-A273-AC03ADB7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E35C-C25D-43C2-B140-92020A9B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086D-6EB4-4884-B389-0950410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8B0B-5AAF-460C-B1A8-10017038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610E-84FF-48BF-A75A-524C990D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27C0-E125-480A-B7F3-3FA9ADAD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57B7-69C3-47DC-A16D-15ED02D4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9C9-A4AD-422D-BA83-39EC07D0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DC05-5EAD-4B8F-AC1F-CDB71C9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C5C3-9D5F-4C03-A59B-69D104A1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31C3-52B2-497D-AA35-D5279A13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800B-980D-4FD4-9323-C9FD4845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6216-0122-4543-8061-146C389D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856-C998-4E56-A699-C715BF1C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24E-816A-44FB-93A7-1B61991A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676-FC8D-4EB5-8FBD-6A1BA10C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DA6-1894-4303-8262-D8FCABC8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9CD-6162-4790-BAB4-BF63C9BE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7D0-7306-4633-A3FF-561C9C0E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59D-E1BE-482B-8285-3A642A9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9289C-8F9D-4EE6-9AD8-D64B4BEA118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916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651386-2561-4160-9CC1-6E659A0EE3B3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EL TEXTO NARRATIV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cotidi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litera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Ámbito periodís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literari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cuento y la nov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700280"/>
          <a:ext cx="8461080" cy="4763880"/>
        </p:xfrm>
        <a:graphic>
          <a:graphicData uri="http://schemas.openxmlformats.org/drawingml/2006/table">
            <a:tbl>
              <a:tblPr/>
              <a:tblGrid>
                <a:gridCol w="4065480"/>
                <a:gridCol w="4395600"/>
              </a:tblGrid>
              <a:tr h="59040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cuent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novel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Breved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Extensió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060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Hechos relevantes precis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Descripciones y diálogos abundant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290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Todo gira alrededor de los hechos o acciones de los personajes, lo que deriva en una mayor intensidad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Profundiza y desarrolla la trama narrativ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954720"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muestra una parte  de la realidad: una secuencia concret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Se crea un pequeño microcosmos donde los personajes reaccionan ante  distintas situacion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177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se dibujan con pequeñas pinceladas sin profundizar en su psicologí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Los personajes poseen una mayor profundidad psicológic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2565360"/>
            <a:ext cx="194472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tuación ini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565360"/>
            <a:ext cx="201636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arrollo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nu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2565360"/>
            <a:ext cx="2089440" cy="576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Desen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3141720"/>
            <a:ext cx="1440" cy="431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2852640"/>
            <a:ext cx="79200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2852640"/>
            <a:ext cx="71892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3573360"/>
            <a:ext cx="2057400" cy="182880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coge el conjunto de acciones deriva-das de la situación planteada. Es la parte  de mayor complej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3573360"/>
            <a:ext cx="205740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unto de partida en el que se presentan los personajes,  en un tiempo y espacio concre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3573360"/>
            <a:ext cx="2171520" cy="1800360"/>
          </a:xfrm>
          <a:prstGeom prst="rect">
            <a:avLst/>
          </a:prstGeom>
          <a:solidFill>
            <a:srgbClr val="00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s el final de la histori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n ella se muestra la situación final en que derivan los hech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lasificación de los personaje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231040" cy="479916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348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ersonal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la particip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su psicologí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642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ip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sonajes superficiales que muestran los rasgos propios del grupo social al que per-tenecen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gracio-so, el vago, el avaro,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25"/>
                        </a:spcBef>
                        <a:buClr>
                          <a:srgbClr val="ffffcc"/>
                        </a:buClr>
                        <a:buFont typeface="Wingdings" charset="2"/>
                        <a:buChar char=""/>
                        <a:tabLst>
                          <a:tab algn="l" pos="1810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dividu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een una mayor carga psicológica y se comportan de ma-nera poco previ-sibl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incipale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n aquellos que tienen una mayor parti-cipación en la his-toria y ocupan más espacio narrativo. Pueden ser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ro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nta-gonist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cundari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-nen un papel me-nos relevante y ocupan menos es-pacio narrativ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n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uy sencilla y es propia de los personajes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Redondos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nen una caracterización más compleja: ex-perimentan, reac-cionan, cambian y evolucionan a lo largo de toda la trama como 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-dividu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0280" indent="-530280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530280"/>
                          <a:tab algn="l" pos="977760"/>
                          <a:tab algn="l" pos="1427040"/>
                          <a:tab algn="l" pos="1876320"/>
                          <a:tab algn="l" pos="2325600"/>
                          <a:tab algn="l" pos="2774880"/>
                          <a:tab algn="l" pos="3224160"/>
                          <a:tab algn="l" pos="3673440"/>
                          <a:tab algn="l" pos="4122720"/>
                          <a:tab algn="l" pos="4572000"/>
                          <a:tab algn="l" pos="5021280"/>
                          <a:tab algn="l" pos="5470560"/>
                          <a:tab algn="l" pos="5919840"/>
                          <a:tab algn="l" pos="6369120"/>
                          <a:tab algn="l" pos="6818400"/>
                          <a:tab algn="l" pos="7267680"/>
                          <a:tab algn="l" pos="7716960"/>
                          <a:tab algn="l" pos="8166240"/>
                          <a:tab algn="l" pos="8615520"/>
                          <a:tab algn="l" pos="9064800"/>
                          <a:tab algn="l" pos="95137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La voz de los personaje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31040" cy="49975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420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in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ilo direc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ólo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51332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rve para reproducir textualmente las pala-bras de un personaje (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: “aquí no aguanto yo dos días”)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construye mediante la yuxtaposición de dos segmentos: la intro-ducción de las palabras del personajes 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-bos de dicción: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</a:t>
                      </a:r>
                      <a:r>
                        <a:rPr b="0" i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ensó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y las palabras propiamente dichas: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í no aguanto yo dos días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este caso se trasladan las palabras de alguien a través de la voz del narrador: </a:t>
                      </a: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an pensó que allí no aguantaba él dos día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s palabras se intro-ducen por una conjun-ción (“que”, “si”, “cuán-do”…) y sufren cambios las formas pronominales, los deícticos de tiempo y espacio, y el tiempo ver-bal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una variante en la que un personaje habla con-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 forma deja entrever el interior del personaje, sus sentimientos, sus emociones… Aunque lo normal es el uso de la primera persona, tam-bién se utiliza la segunda “tú” cuando se desdobla y habla consigo mism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espaci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600200"/>
          <a:ext cx="8231040" cy="4351320"/>
        </p:xfrm>
        <a:graphic>
          <a:graphicData uri="http://schemas.openxmlformats.org/drawingml/2006/table">
            <a:tbl>
              <a:tblPr/>
              <a:tblGrid>
                <a:gridCol w="2743200"/>
                <a:gridCol w="2744640"/>
                <a:gridCol w="2743200"/>
              </a:tblGrid>
              <a:tr h="4856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ís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icológ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38656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biert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aquellos espacios exteriores, de afuera, que son muy grandes o amplios para el desarrollo de los hechos y que dan libertad a los personaj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errado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son los espacios reducidos y pequeños, que limitan y estorban las acciones de los perso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mbiente espi-ritu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rodea al en-torno y, además, influye en las formas de actuar que tengan los perso-naj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e espacio es el que cada personaje tiene en su interior, en directa relación con sus senti-mientos, sean de alegría, angustia, frustración u otr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spacio cultural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Ideas ético-morales, pen-samientos religiosos y políticos, nivel social y económico, entre otros factores que rodean los hechos ejecutados por los personajes, es decir, es el ambiente socio-cultural en que actúan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tiempo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11280" y="2133720"/>
          <a:ext cx="8231040" cy="3311280"/>
        </p:xfrm>
        <a:graphic>
          <a:graphicData uri="http://schemas.openxmlformats.org/drawingml/2006/table">
            <a:tbl>
              <a:tblPr/>
              <a:tblGrid>
                <a:gridCol w="4116240"/>
                <a:gridCol w="4114800"/>
              </a:tblGrid>
              <a:tr h="8204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o o históric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49084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la época o momento histórico en que se sitúa la narración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presentarse con datos concretos o deducirse del ambiente, personajes, costumbres… etc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 el tiempo ficticio que duran los acontecimientos narrados en la histori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ede abarcar toda una vida o ceñirse a varios días. El autor selecciona los hechos que juzga interesantes y omite (co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ipsis o saltos temporales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aquellos que considera innecesario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Comic Sans MS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l narrador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0920" y="1413000"/>
          <a:ext cx="8449920" cy="5384160"/>
        </p:xfrm>
        <a:graphic>
          <a:graphicData uri="http://schemas.openxmlformats.org/drawingml/2006/table">
            <a:tbl>
              <a:tblPr/>
              <a:tblGrid>
                <a:gridCol w="2816640"/>
                <a:gridCol w="2400840"/>
                <a:gridCol w="3232440"/>
              </a:tblGrid>
              <a:tr h="642960"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1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2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DE LA 3 ª PERSONA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741200">
                <a:tc>
                  <a:txBody>
                    <a:bodyPr lIns="90000" rIns="90000" tIns="84600" bIns="46800" anchor="t">
                      <a:noAutofit/>
                    </a:bodyPr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rotagonista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 narrador es también el personaje principal: biografía o autobio-grafía novelada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 algn="just">
                        <a:lnSpc>
                          <a:spcPct val="90000"/>
                        </a:lnSpc>
                        <a:spcBef>
                          <a:spcPts val="462"/>
                        </a:spcBef>
                        <a:spcAft>
                          <a:spcPts val="575"/>
                        </a:spcAft>
                        <a:buClr>
                          <a:srgbClr val="000000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88920"/>
                          <a:tab algn="l" pos="536400"/>
                          <a:tab algn="l" pos="985680"/>
                          <a:tab algn="l" pos="1434960"/>
                          <a:tab algn="l" pos="1884240"/>
                          <a:tab algn="l" pos="2333520"/>
                          <a:tab algn="l" pos="2782800"/>
                          <a:tab algn="l" pos="3232080"/>
                          <a:tab algn="l" pos="3681360"/>
                          <a:tab algn="l" pos="4130640"/>
                          <a:tab algn="l" pos="4579920"/>
                          <a:tab algn="l" pos="5029200"/>
                          <a:tab algn="l" pos="5478480"/>
                          <a:tab algn="l" pos="5927760"/>
                          <a:tab algn="l" pos="6377040"/>
                          <a:tab algn="l" pos="6826320"/>
                          <a:tab algn="l" pos="7275600"/>
                          <a:tab algn="l" pos="7724880"/>
                          <a:tab algn="l" pos="8174160"/>
                          <a:tab algn="l" pos="8623440"/>
                          <a:tab algn="l" pos="90727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personaje se-cundari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dor es un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go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e pre-sencia los hechos narrados. A veces, los testigos son varios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Desdoblamiento del 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El narrador crea el efecto de estar contándose la his-toria a sí mismo o a un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desdoblado. Forma parte de la historia como prota-gonista o testigo. Aunque  aparezca la segunda persona gramatical </a:t>
                      </a: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ú,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e dirige al le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mnisciente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todo lo sabe. Aquel cuyo conocimiento de los hechos es total y absoluto. Sabe lo que piensan y sienten los personajes; a veces opina sobre ellos, pero no participa de los hech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Aft>
                          <a:spcPts val="575"/>
                        </a:spcAft>
                        <a:buClr>
                          <a:srgbClr val="ffffcc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Narrador observado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que sólo cuenta lo que puede observar. De modo parecido a una cámara de cine, el na-rrador muestra lo que ve. No participa de los hechos, ni opin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600" spc="-1" strike="noStrike">
                <a:solidFill>
                  <a:srgbClr val="feec94"/>
                </a:solidFill>
                <a:latin typeface="Times New Roman"/>
              </a:rPr>
              <a:t>El cuento y la novel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Orden de la acción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30680" cy="4790880"/>
        </p:xfrm>
        <a:graphic>
          <a:graphicData uri="http://schemas.openxmlformats.org/drawingml/2006/table">
            <a:tbl>
              <a:tblPr/>
              <a:tblGrid>
                <a:gridCol w="2743560"/>
                <a:gridCol w="2743560"/>
                <a:gridCol w="2743560"/>
              </a:tblGrid>
              <a:tr h="40608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l o cronológ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 media 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tura tempo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8480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orden de los aconte-cimientos sigue una 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lí-nea temporal ordenada cronológicamente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Los distintos acontecimien-tos se van sucediendo uno tras otro sin saltos en el tiempo, lo que permite un fácil segui-miento de la historia por parte del receptor. Es la forma utilizada en los cuentos populares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resión latina  que significa “</a:t>
                      </a:r>
                      <a:r>
                        <a:rPr b="1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n medio del asunto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relato em-pieza en medio de la historia, a veces también desde el final, sin previa aclaración de la histor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 trata de un comienzo abrupto empleado para captar la atención del lector.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800"/>
                      </a:br>
                      <a:br>
                        <a:rPr sz="3200"/>
                      </a:b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-back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trospec-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: el narrador trasla-da la acción al pasad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ipación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narra-dor anticipa acciones, se adelanta en el tiemp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punto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varias historias se entrecruzan a lo largo de la narra-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ar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el texto co- mienza y acaba del mismo mod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periodístic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noticia y la cró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¿Qué es una narración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428240" cy="39891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narración es una de las formas textuales más importantes por el hecho de estar presente en nuestra vida cotidiana: desde el relato de una simple anécdota a un amigo, pasando por escribir en un diario lo que hemos hecho a lo largo del día, hasta la lectura de una  noticia en un periódico. De  esta forma se convierte en la forma textual más utilizada, porque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o habitual en nuestra vida diaria es contar algo.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notic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19880" cy="3133800"/>
        </p:xfrm>
        <a:graphic>
          <a:graphicData uri="http://schemas.openxmlformats.org/drawingml/2006/table">
            <a:tbl>
              <a:tblPr/>
              <a:tblGrid>
                <a:gridCol w="2879640"/>
                <a:gridCol w="2448000"/>
                <a:gridCol w="2892240"/>
              </a:tblGrid>
              <a:tr h="10382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095560"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eso de actualidad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ontecimiento rele-vant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interés del públic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 divulgativo.</a:t>
                      </a: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o quiénes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Por qué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46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irámide invert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los datos más relevan-tes a los  menos impor-tan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La crónic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8360" y="2133720"/>
          <a:ext cx="8231040" cy="3381120"/>
        </p:xfrm>
        <a:graphic>
          <a:graphicData uri="http://schemas.openxmlformats.org/drawingml/2006/table">
            <a:tbl>
              <a:tblPr/>
              <a:tblGrid>
                <a:gridCol w="3456000"/>
                <a:gridCol w="4775040"/>
              </a:tblGrid>
              <a:tr h="7905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acterística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59056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icia amplia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 periodista es testigo de los hechos y los valor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monios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objetiva: notici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buClr>
                          <a:srgbClr val="ffff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 subjetiva: comentari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narración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La verosimilitu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consiste en hacer parecer unos hechos como ciertos aunque no lo sean; por ello, es aconsejable partir de hechos conocidos o vividos directamen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El punto de vista narrativ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que una narración resulte atractiva y logre despertar la curiosidad de los receptores, es fundamental lo que se cuenta, pero, sobre todo, cómo se cuenta. Todo va a depender de cómo se nos presenten los hechos, los personajes que intervienen, el ambiente,…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feec94"/>
                </a:solidFill>
                <a:latin typeface="Comic Sans MS"/>
              </a:rPr>
              <a:t>Elementos de la narr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narrador o narra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hechos o a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s personajes o personas concretas (si se trata del relato de una historia real, como una anécdota o una biografí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o o varios espac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Un periodo de tiem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Narraciones del ámbito cotidian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nécdota y el correo electrón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pontane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rge de forma no premeditada, en el transcurso de una conversació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Breve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es fundamental centrarse en los hechos relevantes, con apenas descripciones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xpresividad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predominan las funciones expresiva y apelativa, con llamadas de atención a nuestro interlocutor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uceso curios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un hecho que se escape de lo comú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rden cronológ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los acontecimientos siguen un orden line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Un hecho pas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sucesos pasados con predominio del pretérito perfecto simp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Comic Sans MS"/>
              </a:rPr>
              <a:t>La anécdota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Comic Sans MS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844640"/>
          <a:ext cx="8291520" cy="4673520"/>
        </p:xfrm>
        <a:graphic>
          <a:graphicData uri="http://schemas.openxmlformats.org/drawingml/2006/table">
            <a:tbl>
              <a:tblPr/>
              <a:tblGrid>
                <a:gridCol w="3970440"/>
                <a:gridCol w="4321080"/>
              </a:tblGrid>
              <a:tr h="257472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NTEAMIENT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ndo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A quién l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Dónde ocurr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la situación inicial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75896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DO</a:t>
                      </a: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sucedió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ocurrió lueg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67652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50000"/>
                        </a:lnSpc>
                        <a:spcBef>
                          <a:spcPts val="1687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ENLACE 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En qué quedó tod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32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Qué consecuencias tuvo?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30000"/>
                        </a:lnSpc>
                        <a:spcBef>
                          <a:spcPts val="1301"/>
                        </a:spcBef>
                        <a:spcAft>
                          <a:spcPts val="9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Características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rapidez de la comunicación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Es una de las características esenciales de este tipo de comunicación: la persona a quien enviamos nuestro mensaje escrito lo recibe en su cuenta de correo de forma casi inmediat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700"/>
              </a:spcBef>
              <a:spcAft>
                <a:spcPts val="1687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2700" spc="-1" strike="noStrike" u="sng">
                <a:solidFill>
                  <a:srgbClr val="ffffff"/>
                </a:solidFill>
                <a:uFillTx/>
                <a:latin typeface="Times New Roman"/>
              </a:rPr>
              <a:t>La prontitud de la respuesta de nuestro interlocutor</a:t>
            </a:r>
            <a:r>
              <a:rPr b="0" lang="es-ES" sz="2700" spc="-1" strike="noStrike">
                <a:solidFill>
                  <a:srgbClr val="ffffff"/>
                </a:solidFill>
                <a:latin typeface="Times New Roman"/>
              </a:rPr>
              <a:t>. Aunque, a veces, tengamos que esperar un pequeño margen de tiempo, no es como un correo postal que siempre va a suponer varios días de espera y va a depender de diversos factores, entre ellos la distancia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El correo electrónico </a:t>
            </a:r>
            <a:br>
              <a:rPr sz="4000"/>
            </a:br>
            <a:r>
              <a:rPr b="1" lang="es-ES" sz="3200" spc="-1" strike="noStrike">
                <a:solidFill>
                  <a:srgbClr val="feec94"/>
                </a:solidFill>
                <a:latin typeface="Times New Roman"/>
              </a:rPr>
              <a:t>Estructura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58040" cy="5046840"/>
        </p:xfrm>
        <a:graphic>
          <a:graphicData uri="http://schemas.openxmlformats.org/drawingml/2006/table">
            <a:tbl>
              <a:tblPr/>
              <a:tblGrid>
                <a:gridCol w="3683160"/>
                <a:gridCol w="4574880"/>
              </a:tblGrid>
              <a:tr h="12384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U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os día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enas tarde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 María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¡Hola!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42956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 DEL MENSAJ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s el saludo se inicia un nuevo párrafo, o varios, dependiendo de la extensión de lo que queremos cont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786240">
                <a:tc>
                  <a:txBody>
                    <a:bodyPr lIns="90000" rIns="90000" tIns="1047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ERR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 una o dos líneas se debe cerrar el texto que hemos elaborad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592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PEDIDA Y FIRM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8856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cordial saludo,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oán Corredoi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nform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 saludo,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i="1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i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0T08:29:42Z</dcterms:created>
  <dc:creator>Guillermo</dc:creator>
  <dc:description/>
  <dc:language>en-US</dc:language>
  <cp:lastModifiedBy>Guillermo</cp:lastModifiedBy>
  <dcterms:modified xsi:type="dcterms:W3CDTF">2014-07-19T08:54:22Z</dcterms:modified>
  <cp:revision>12</cp:revision>
  <dc:subject/>
  <dc:title>EL TEXTO NARRATIVO</dc:title>
</cp:coreProperties>
</file>