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E5A-526D-4D44-B4D5-C357709B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C140-8D29-43BD-BA74-621D257B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FE8-BA56-4B4A-9244-C7C8659B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565-A44F-4D54-884B-7D090C78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4A19-DDA4-49DD-8F06-253775D8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9497-93D5-4903-804F-E450A268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E72B-AAA5-4697-BD02-B6E18B30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95B5-6646-4C4E-B888-213D15F3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1832-5D15-43D8-8B7A-763D8D1D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D44D-C982-451B-8AB2-F97FD3E5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8C9C-353F-4C05-AFF1-232285CD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733-C308-4FEC-918E-000FD599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16F8-51B7-475D-8BE8-EBB270A5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67E8-D986-48D9-8734-DF7C5442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5903-F61B-42AD-8BC1-708E7517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6229-5F3C-411F-ABFC-206506BE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D378-0663-47AB-8091-1DEE9E43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FC2-4FA0-424F-9AB6-9519273B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28C-7657-4B6C-AE0D-D9F82A77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186-A5B4-42AA-9E6D-8984C997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BB07-5938-449C-93A8-E9D5C5A5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A42-6A62-403C-926F-871CF75E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BEF9-1320-4A35-96F8-5482D633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EEC-E340-4E7D-BCC9-FFD177A6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B41AF8-8CDB-4ED9-B5FD-8D0019FBE2C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2560" cy="6932520"/>
            <a:chOff x="0" y="0"/>
            <a:chExt cx="9142560" cy="69325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0960" cy="31255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1240" cy="25444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1560" cy="14954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2960" cy="18954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8440" cy="35956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7160" cy="23925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3840" cy="12780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8160" cy="1681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9720" cy="11811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2560" cy="5317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2560" cy="4557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9080" cy="32115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2000" cy="28353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8120" cy="375444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0440" cy="306864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DF65673-CBC5-4F51-B196-81B764E15E05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Comic Sans MS"/>
              </a:rPr>
              <a:t>El texto argumentativ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Primera pa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eec94"/>
                </a:solidFill>
                <a:latin typeface="Comic Sans MS"/>
              </a:rPr>
              <a:t>REDACCIÓN DE TEXTOS ARGUMENTATIVO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Es frecuente el empleo de la primera persona gramatical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yo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 o 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nosotros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), dado que se expresa una opinión propi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Predominan los sustantivos abstractos.</a:t>
            </a:r>
            <a:r>
              <a:rPr b="0" lang="es-ES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Uso de verbos que expresan voluntad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gustar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); verbos de dicción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decir)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, y de pensamiento (</a:t>
            </a:r>
            <a:r>
              <a:rPr b="0" i="1" lang="es-ES" sz="2700" spc="-1" strike="noStrike">
                <a:solidFill>
                  <a:srgbClr val="ffffff"/>
                </a:solidFill>
                <a:latin typeface="Comic Sans MS"/>
              </a:rPr>
              <a:t>creer)</a:t>
            </a: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Con frecuencia se emplea la interrogación retóric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Aft>
                <a:spcPts val="201"/>
              </a:spcAft>
              <a:buClr>
                <a:srgbClr val="ffff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Comic Sans MS"/>
              </a:rPr>
              <a:t>Empleo de adjetivos valorativos y oraciones largas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¿Qué es una argumentación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276280"/>
            <a:ext cx="8496360" cy="3313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Una argumentación es un texto que tiene como fin o bien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persuadir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al destinatario del punto de vista que se tiene sobre un asunto, o bien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convencerlo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de la veracidad o falsedad de una teoría, aportando en ambos casos razones o argumento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¿Cuándo y por qué argumentamos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os textos argumentativos son de los más empleados por estudiantes, profesores, científicos, político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 argumentación es la base del conoc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No sería posible concebir una sociedad democrática sin que las personas pudiéramos defender nuestras opin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Tenemos que saber tratar y resolver conflictos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¿Qué propiedades textuales tienen los textos argumentativos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Adecuación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: es muy importante conocer el contexto comunicativo y el tipo de argumentación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oherencia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: las ideas planteadas y los argumentos deben estar de acuerdo con un orden lógico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ohesión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: en el texto argumentativo es donde  se hace más necesario el empleo de conectores y organizadores textuales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ESTRUCTURA DEL TEXTO ARGUMENTATIVO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5280" y="2349360"/>
          <a:ext cx="8424720" cy="3418200"/>
        </p:xfrm>
        <a:graphic>
          <a:graphicData uri="http://schemas.openxmlformats.org/drawingml/2006/table">
            <a:tbl>
              <a:tblPr/>
              <a:tblGrid>
                <a:gridCol w="2664000"/>
                <a:gridCol w="2976480"/>
                <a:gridCol w="278424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SI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8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UERPO DE LA ARGUMENTACIÓN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8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CLUSIÓN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8800"/>
                    </a:solidFill>
                  </a:tcPr>
                </a:tc>
              </a:tr>
              <a:tr h="26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 Idea funda-mental que se defiende.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 Debe formular-se de forma cla-ra.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7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lación de argu-mentos para de-fender la idea planteada o refutar ideas contrarias a ella.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7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862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GB" sz="23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ierre del texto, tras el razona-miento lógico de-rivado de la argu-mentación prece-dente.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79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TIPOS DE ARGUMENTOS</a:t>
            </a:r>
            <a:br>
              <a:rPr sz="3200"/>
            </a:br>
            <a:r>
              <a:rPr b="0" lang="es-ES" sz="2800" spc="-1" strike="noStrike">
                <a:solidFill>
                  <a:srgbClr val="feec94"/>
                </a:solidFill>
                <a:latin typeface="Comic Sans MS"/>
              </a:rPr>
              <a:t>El argumento de autoridad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859880" cy="4530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Se recurre a testimonios o citas de personas, célebres en muchos casos, o especialistas sobre el tema en cuestión: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762012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258920" y="3933720"/>
          <a:ext cx="7056360" cy="2087640"/>
        </p:xfrm>
        <a:graphic>
          <a:graphicData uri="http://schemas.openxmlformats.org/drawingml/2006/table">
            <a:tbl>
              <a:tblPr/>
              <a:tblGrid>
                <a:gridCol w="7056360"/>
              </a:tblGrid>
              <a:tr h="20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i="1" lang="es-E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Según reconocidos especialistas de nutrición de todo el mundo</a:t>
                      </a:r>
                      <a:r>
                        <a:rPr b="0" i="1" lang="es-E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, la dieta mediterránea, basada en el consumo de frutas, verduras, pescado, y aceite de oliva, es la mejor para llevar una vida sana y equilibrad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Tipos de argumentos</a:t>
            </a:r>
            <a:br>
              <a:rPr sz="3600"/>
            </a:br>
            <a:r>
              <a:rPr b="0" lang="es-ES" sz="3200" spc="-1" strike="noStrike">
                <a:solidFill>
                  <a:srgbClr val="feec94"/>
                </a:solidFill>
                <a:latin typeface="Comic Sans MS"/>
              </a:rPr>
              <a:t>El argumento de la mayorí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557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rgumento muy empleado en el que se recurre al sentir de la mayoría de la gente o de la socieda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" sz="2800" spc="-1" strike="noStrike">
                <a:solidFill>
                  <a:srgbClr val="009900"/>
                </a:solidFill>
                <a:latin typeface="Comic Sans MS"/>
              </a:rPr>
              <a:t>Todo el mundo piensa</a:t>
            </a:r>
            <a:r>
              <a:rPr b="0" i="1" lang="es-ES" sz="2800" spc="-1" strike="noStrike">
                <a:solidFill>
                  <a:srgbClr val="009900"/>
                </a:solidFill>
                <a:latin typeface="Comic Sans MS"/>
              </a:rPr>
              <a:t> que la idea puede funcionar.</a:t>
            </a:r>
            <a:r>
              <a:rPr b="0" lang="es-ES" sz="2800" spc="-1" strike="noStrike">
                <a:solidFill>
                  <a:srgbClr val="cc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Tipos de argumentos</a:t>
            </a:r>
            <a:br>
              <a:rPr sz="36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argumento de la experienci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1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Se basa en el empleo de los ejemplos, basados en la experiencia, para ilustrar lo que se quiere demostrar o de defender: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" sz="2800" spc="-1" strike="noStrike">
                <a:solidFill>
                  <a:srgbClr val="009900"/>
                </a:solidFill>
                <a:latin typeface="Comic Sans MS"/>
              </a:rPr>
              <a:t>Yo misma, y algunos de mis familiares</a:t>
            </a:r>
            <a:r>
              <a:rPr b="0" i="1" lang="es-ES" sz="2800" spc="-1" strike="noStrike">
                <a:solidFill>
                  <a:srgbClr val="009900"/>
                </a:solidFill>
                <a:latin typeface="Comic Sans MS"/>
              </a:rPr>
              <a:t>, lo hemos probado y los resultados fueron excelentes.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EL ORDEN DE LOS ARGUMENTO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30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s necesari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vitar las divagaciones y los juegos de palabr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Utilizar párrafos para distribuir y organizar cada uno de los argument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Relacionar los distintos párrafos con conectores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otar el texto de unidad y sentido global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2T07:59:25Z</dcterms:created>
  <dc:creator>Guillermo</dc:creator>
  <dc:description/>
  <dc:language>en-US</dc:language>
  <cp:lastModifiedBy>Guillermo</cp:lastModifiedBy>
  <dcterms:modified xsi:type="dcterms:W3CDTF">2014-07-19T12:44:52Z</dcterms:modified>
  <cp:revision>12</cp:revision>
  <dc:subject/>
  <dc:title>El texto argumentativo</dc:title>
</cp:coreProperties>
</file>