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29C2-5B10-4DBF-A9E8-ED8325AF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E53-4DC2-4FF8-8965-9AB58F3D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C89-69E9-4962-AEA1-68D3C43A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8C1-8F61-4C86-B724-F59FB7F5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E26D-96AF-4317-A592-473879A0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B72B-3487-46AB-A509-9E0A48FC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3E57-59C9-460B-BCCF-5F6CD1C2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2791-70CB-4CBB-94F5-662E25F1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8402-2FD4-4691-B551-6993E0B5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EA4E-AE8F-4CA1-AAF8-3068567B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CD7B-6958-4AD2-BE61-9E831440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061-05FE-4C1B-99AA-CC7F3514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356F-B949-4CDD-BAD9-C7ACC30F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DF98-AA43-45D4-9D7D-1B583822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9D21-0B25-421B-8275-FAB714F5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18F3-33A0-4299-B544-D1924CE1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E77A-9855-4DC4-8776-7317B86E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8092-059A-4BEE-A1B7-A86311F9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7EBB-922D-4825-816C-342822E0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628-4CF9-4269-BBA9-F7F283CB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793-551A-4C51-A5F6-77070EDF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89EF-9DEA-431A-97D0-B52075D9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CCB-867E-41E1-B3C0-DF1A5160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690-DC82-4FEF-9889-C53F948C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67BAC-A85A-45AE-AF4E-B72673361159}" type="slidenum">
              <a:rPr b="0" lang="es-E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1CFCD87-EA76-4D25-8499-990A91BF8A68}" type="slidenum">
              <a:rPr b="0" lang="es-E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MODALIDADES ORACIONALES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11280" y="2708280"/>
          <a:ext cx="8235360" cy="2733480"/>
        </p:xfrm>
        <a:graphic>
          <a:graphicData uri="http://schemas.openxmlformats.org/drawingml/2006/table">
            <a:tbl>
              <a:tblPr/>
              <a:tblGrid>
                <a:gridCol w="8235360"/>
              </a:tblGrid>
              <a:tr h="3520080">
                <a:tc>
                  <a:txBody>
                    <a:bodyPr lIns="90000" rIns="90000" tIns="140760" bIns="46800" anchor="t">
                      <a:noAutofit/>
                    </a:bodyPr>
                    <a:p>
                      <a:pPr algn="just">
                        <a:lnSpc>
                          <a:spcPct val="9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demos clasificar las oraciones según la modalidad, es decir, según la actitud del hablante, tanto en relación con el oyente como respecto a lo que dice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MODALIDAD: DEFINICIÓN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11280" y="1628640"/>
          <a:ext cx="8235720" cy="4653000"/>
        </p:xfrm>
        <a:graphic>
          <a:graphicData uri="http://schemas.openxmlformats.org/drawingml/2006/table">
            <a:tbl>
              <a:tblPr/>
              <a:tblGrid>
                <a:gridCol w="8235720"/>
              </a:tblGrid>
              <a:tr h="5190480">
                <a:tc>
                  <a:txBody>
                    <a:bodyPr lIns="90000" rIns="90000" tIns="140760" bIns="46800" anchor="t">
                      <a:noAutofit/>
                    </a:bodyPr>
                    <a:p>
                      <a:pPr algn="just">
                        <a:lnSpc>
                          <a:spcPct val="9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demos clasificar las oraciones según la “modalidad”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 modalidad indica la actitud del hablante, tanto en relación con el oyente como respecto a lo que dice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75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cisamente, cuando hablamos del “modo” en los verbos (indicativo, subjuntivo, imperativo), también nos referimos a la actitud del hablante.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ón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0600" y="1447920"/>
          <a:ext cx="8453520" cy="5029200"/>
        </p:xfrm>
        <a:graphic>
          <a:graphicData uri="http://schemas.openxmlformats.org/drawingml/2006/table">
            <a:tbl>
              <a:tblPr/>
              <a:tblGrid>
                <a:gridCol w="8453520"/>
              </a:tblGrid>
              <a:tr h="502920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Verdana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unci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afirmativa o negativa): el hablante informa sobre algo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tá lloviend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t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llamada también </a:t>
                      </a:r>
                      <a:r>
                        <a:rPr b="0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esider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: el hablante expresa un deseo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jalá llovies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clam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xpresa una emoción. Por ejemplo,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¡Qué bien! ¡Gracias a Dios que llueve!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ubit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l emisor expresa duda. Por ejemplo,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Quizá llueva mañana”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l emisor realiza una pregunt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hortativ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xpresa orden o mandat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50000">
                          <a:srgbClr val="559426"/>
                        </a:gs>
                        <a:gs pos="100000">
                          <a:srgbClr val="27441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es de interrogativa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484280"/>
          <a:ext cx="8453520" cy="5041800"/>
        </p:xfrm>
        <a:graphic>
          <a:graphicData uri="http://schemas.openxmlformats.org/drawingml/2006/table">
            <a:tbl>
              <a:tblPr/>
              <a:tblGrid>
                <a:gridCol w="8453520"/>
              </a:tblGrid>
              <a:tr h="504180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Verdana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direct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s la forma de preguntar más usual. Por ejemplo, 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Está lloviendo?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indirect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la pregunta se plantea dentro de una oración subordinada, dependiendo de un verbo que indica entendimiento, sentido o lengua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No sé si lloverá esta tarde”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total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 la que se responde con sí o no: por ejemplo,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“¿Has estudiado mucho?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rogativa parcial: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s la que pregunta por circunstancias: 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A qué hora llegas?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59426"/>
                        </a:gs>
                        <a:gs pos="100000">
                          <a:srgbClr val="27441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hortativa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484280"/>
          <a:ext cx="8453520" cy="4824000"/>
        </p:xfrm>
        <a:graphic>
          <a:graphicData uri="http://schemas.openxmlformats.org/drawingml/2006/table">
            <a:tbl>
              <a:tblPr/>
              <a:tblGrid>
                <a:gridCol w="8453520"/>
              </a:tblGrid>
              <a:tr h="4824000">
                <a:tc>
                  <a:txBody>
                    <a:bodyPr lIns="90000" rIns="90000" tIns="81000" bIns="46800" anchor="t">
                      <a:noAutofit/>
                    </a:bodyPr>
                    <a:p>
                      <a:pPr marL="90360" algn="ctr">
                        <a:lnSpc>
                          <a:spcPct val="123000"/>
                        </a:lnSpc>
                        <a:spcAft>
                          <a:spcPts val="1687"/>
                        </a:spcAft>
                        <a:tabLst>
                          <a:tab algn="l" pos="0"/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resan consejo, ruego, o mandato.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 indicar ruego, consejo o sugerencia podemos emplear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dicional simple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térito imperfecto de indica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térito imperfecto de subjun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solamente en –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 -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). Esta última posibilidad es muy formal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ebías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habérselo dich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¿Te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importaría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allarte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90360"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450720"/>
                          <a:tab algn="l" pos="5414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Quisiera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pedirte un favor.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Forma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Expresión de la orden o mandato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50920" y="1484280"/>
          <a:ext cx="8717040" cy="4995720"/>
        </p:xfrm>
        <a:graphic>
          <a:graphicData uri="http://schemas.openxmlformats.org/drawingml/2006/table">
            <a:tbl>
              <a:tblPr/>
              <a:tblGrid>
                <a:gridCol w="8717040"/>
              </a:tblGrid>
              <a:tr h="499572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dat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órdenes o prohibiciones) pueden tener forma afirmativa o negativ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imperativo solo tiene dos forma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en segunda persona, y solamente en afirmaciones)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t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tú) –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tad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vosotros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 otras personas, o con negación, empleamos el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sente de subjun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ígame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3ª persona singular, usted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lo haga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segunda persona singular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iéntese a 100ºC durante 10 m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3ª singular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presión de la orden o mandato I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5280" y="2060640"/>
          <a:ext cx="8309160" cy="3960360"/>
        </p:xfrm>
        <a:graphic>
          <a:graphicData uri="http://schemas.openxmlformats.org/drawingml/2006/table">
            <a:tbl>
              <a:tblPr/>
              <a:tblGrid>
                <a:gridCol w="8309160"/>
              </a:tblGrid>
              <a:tr h="396036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 posible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truir oraciones de valor imperativo con el futur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¡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rás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o que se te dice!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”, e incluso el presente: 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ú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ces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so y no se hable más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”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mbién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 puede emplear el infinitivo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 oraciones exhortativas dirigidas a un público indeterminado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Lava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 agua fría.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No congela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después de haber descongelad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328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MODALIDADES ORACIONALES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xpresión de la orden o mandato II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3000" y="1757520"/>
          <a:ext cx="8453160" cy="4551120"/>
        </p:xfrm>
        <a:graphic>
          <a:graphicData uri="http://schemas.openxmlformats.org/drawingml/2006/table">
            <a:tbl>
              <a:tblPr/>
              <a:tblGrid>
                <a:gridCol w="8453160"/>
              </a:tblGrid>
              <a:tr h="455112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arece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infinitivo en oraciones en situaciones coloquiales, precedido de la preposición </a:t>
                      </a:r>
                      <a:r>
                        <a:rPr b="1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¡Niños,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 dormi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!”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mbién podemos emplear diversas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ífrasis modales de obligación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, con infinitivo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Tienes que lava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os plato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y que recoge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a mes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Debes hacer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os deberes antes de sali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108000"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spcAft>
                          <a:spcPts val="300"/>
                        </a:spcAft>
                        <a:buClr>
                          <a:srgbClr val="ffffff"/>
                        </a:buClr>
                        <a:buSzPct val="60000"/>
                        <a:buFont typeface="Comic Sans MS"/>
                        <a:buChar char="•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Has de comportarte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mejor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74411"/>
                        </a:gs>
                        <a:gs pos="100000">
                          <a:srgbClr val="55942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9:38:06Z</dcterms:created>
  <dc:creator>Guillermo</dc:creator>
  <dc:description/>
  <dc:language>en-US</dc:language>
  <cp:lastModifiedBy>Guillermo</cp:lastModifiedBy>
  <dcterms:modified xsi:type="dcterms:W3CDTF">2014-07-19T11:54:48Z</dcterms:modified>
  <cp:revision>28</cp:revision>
  <dc:subject/>
  <dc:title>ADECUACIÓN Textos orales y escritos </dc:title>
</cp:coreProperties>
</file>