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2A0-4ECC-4756-9D92-E518AC3F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AE86-20D8-4B0C-8689-E4CEA1EF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6FA-439F-4C2D-B453-192563B4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133-A1C1-49BC-A956-C519F989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EC6B-1815-407F-B08F-B6E4BEEA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8858-20FF-47A9-910C-020268FF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5FD0-40B1-422A-9BEC-91472C65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FD28-51AE-4FD8-866C-33E84F95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5A3-BACF-4271-93D5-84DF9068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C352-F630-446C-8D8A-62C5A169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FCC8-210B-4AB7-8071-5800744A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E72-4A99-4E81-8C80-8BECE813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585E-F3A4-4ABB-9805-28BD338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4D40-17D4-4690-915C-1C2CAF8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8712-C8C5-4CDD-A775-8AC1783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09E2-0060-45EC-B3C4-0969A0CE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048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36240" y="17636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048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636240" y="437004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FA9A-DC79-4A2F-808A-337DCF19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DB3-AFE8-405A-824A-C8B031B7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B6C-1DBD-4BE1-8656-975C4120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D77-1F36-41C5-8239-598F6F75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04360" y="306360"/>
            <a:ext cx="90680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F7D-EF07-4C4D-AB87-AFBD47F7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F88-5ED9-4EC1-BE52-BCEABB6D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51240" y="43700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DD4-199F-4823-A595-5FB336B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240" y="1763640"/>
            <a:ext cx="44251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68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CF8-9CC8-480C-A349-A783CCF3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360" y="306360"/>
            <a:ext cx="9068040" cy="1255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9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680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3A5A3-AA58-4750-9275-6DEA627146CA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10076040" cy="7639200"/>
            <a:chOff x="0" y="0"/>
            <a:chExt cx="10076040" cy="7639200"/>
          </a:xfrm>
        </p:grpSpPr>
        <p:sp>
          <p:nvSpPr>
            <p:cNvPr id="61" name=""/>
            <p:cNvSpPr/>
            <p:nvPr/>
          </p:nvSpPr>
          <p:spPr>
            <a:xfrm>
              <a:off x="0" y="3863880"/>
              <a:ext cx="4397400" cy="344196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4367160"/>
              <a:ext cx="3691080" cy="28018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0840" y="5657760"/>
              <a:ext cx="6415200" cy="164484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917640"/>
              <a:ext cx="1698480" cy="2085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80000" y="1440"/>
              <a:ext cx="4492800" cy="39610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68960" y="1440"/>
              <a:ext cx="3819600" cy="263376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135080"/>
              <a:ext cx="1422360" cy="140508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703600"/>
              <a:ext cx="1328760" cy="1825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49640" y="6005520"/>
              <a:ext cx="5564160" cy="12985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6600" y="22212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7120" y="228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705636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7056360"/>
              <a:ext cx="10076040" cy="58284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10076040" cy="4986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0640" y="399960"/>
              <a:ext cx="5575320" cy="3537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52600" y="512640"/>
              <a:ext cx="3746520" cy="312264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30720" y="3024360"/>
              <a:ext cx="4945320" cy="413532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0680" y="3254400"/>
              <a:ext cx="3778560" cy="33796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015640"/>
            <a:ext cx="8564400" cy="1909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0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504720" y="6888240"/>
            <a:ext cx="234648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444840" y="6888240"/>
            <a:ext cx="318600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7224840" y="6888240"/>
            <a:ext cx="2347920" cy="498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71B2A-DA6B-4E57-9F58-14E529A3A65E}" type="slidenum">
              <a:rPr b="0" lang="es-ES" sz="15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08000" y="1547640"/>
          <a:ext cx="8070480" cy="5727600"/>
        </p:xfrm>
        <a:graphic>
          <a:graphicData uri="http://schemas.openxmlformats.org/drawingml/2006/table">
            <a:tbl>
              <a:tblPr/>
              <a:tblGrid>
                <a:gridCol w="8070480"/>
              </a:tblGrid>
              <a:tr h="5899320">
                <a:tc>
                  <a:txBody>
                    <a:bodyPr lIns="90000" rIns="90000" tIns="58320" bIns="46800" anchor="t">
                      <a:noAutofit/>
                    </a:bodyPr>
                    <a:p>
                      <a:pPr marL="216000" indent="30240" algn="just">
                        <a:lnSpc>
                          <a:spcPct val="117000"/>
                        </a:lnSpc>
                        <a:spcBef>
                          <a:spcPts val="887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Un texto descriptivo es el que expone las características de una persona, animal, o cos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scribir es explicar con palabras cómo es alguien o algo. Es una especie de pintura o fotografía con palabr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6000" indent="30240" algn="just">
                        <a:lnSpc>
                          <a:spcPct val="187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45000"/>
                        <a:buFont typeface="Wingdings" charset="2"/>
                        <a:buChar char=""/>
                        <a:tabLst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odemos describir una persona, un animal, un objeto, un paisaje, un espacio, un ambiente, un estado de ánim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 Clasificaciones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(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79640" y="1763640"/>
          <a:ext cx="7995600" cy="5570280"/>
        </p:xfrm>
        <a:graphic>
          <a:graphicData uri="http://schemas.openxmlformats.org/drawingml/2006/table">
            <a:tbl>
              <a:tblPr/>
              <a:tblGrid>
                <a:gridCol w="3070440"/>
                <a:gridCol w="4925160"/>
              </a:tblGrid>
              <a:tr h="60624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la posición del autor del tex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0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O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Muestra la realidad tal y como 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563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bjet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87000"/>
                        </a:lnSpc>
                        <a:spcBef>
                          <a:spcPts val="850"/>
                        </a:spcBef>
                        <a:spcAft>
                          <a:spcPts val="85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la realidad tal y como la percibe el habla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04720" y="1768320"/>
          <a:ext cx="9151920" cy="5395680"/>
        </p:xfrm>
        <a:graphic>
          <a:graphicData uri="http://schemas.openxmlformats.org/drawingml/2006/table">
            <a:tbl>
              <a:tblPr/>
              <a:tblGrid>
                <a:gridCol w="2594160"/>
                <a:gridCol w="6557760"/>
              </a:tblGrid>
              <a:tr h="7480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enfoque adoptado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9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tende presentar lo bueno y lo malo; domina la o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36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Idealis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solo lo bueno, o lo que le gusta al autor del texto; domina la subjetividad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681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Degrada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esenta fundamentalmente lo malo, o lo que disgusta y produce desagrado al autor; domina la subjetividad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Clasificaciones (III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4720" y="1908000"/>
          <a:ext cx="9220320" cy="5251680"/>
        </p:xfrm>
        <a:graphic>
          <a:graphicData uri="http://schemas.openxmlformats.org/drawingml/2006/table">
            <a:tbl>
              <a:tblPr/>
              <a:tblGrid>
                <a:gridCol w="2087640"/>
                <a:gridCol w="7132680"/>
              </a:tblGrid>
              <a:tr h="70992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1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17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ersona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Prosopografía: descripción de los detalles físic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topeya: descripción de los aspectos psíquicos, morales, los gustos y costumbre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3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Retrato: descripción complet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4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utorretrato: descripción del propio auto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-210960" algn="just">
                        <a:lnSpc>
                          <a:spcPct val="18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SzPct val="100000"/>
                        <a:buBlip>
                          <a:blip r:embed="rId5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aricatura: retrato subjetivo con fines humorísticos o satíricos; se exageran los detalles (hipérbole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306360"/>
            <a:ext cx="9074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Clasificaciones (IV)</a:t>
            </a:r>
            <a:r>
              <a:rPr b="1" lang="es-ES" sz="4500" spc="-1" strike="noStrike">
                <a:solidFill>
                  <a:srgbClr val="feec94"/>
                </a:solidFill>
                <a:latin typeface="Comic Sans MS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19280" y="1979640"/>
          <a:ext cx="8786160" cy="4576320"/>
        </p:xfrm>
        <a:graphic>
          <a:graphicData uri="http://schemas.openxmlformats.org/drawingml/2006/table">
            <a:tbl>
              <a:tblPr/>
              <a:tblGrid>
                <a:gridCol w="2468880"/>
                <a:gridCol w="6317280"/>
              </a:tblGrid>
              <a:tr h="710280">
                <a:tc grid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1137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Clasificación según el tema (2)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spacios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72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9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Topografía: descripción de un lugar, una ciudad o pueblo, un paisaje. Podemos distinguir entre los espacios interiores y los exteriores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6360" y="250560"/>
            <a:ext cx="9074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)</a:t>
            </a:r>
            <a:br>
              <a:rPr sz="24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23800" y="1406520"/>
          <a:ext cx="9145800" cy="5901840"/>
        </p:xfrm>
        <a:graphic>
          <a:graphicData uri="http://schemas.openxmlformats.org/drawingml/2006/table">
            <a:tbl>
              <a:tblPr/>
              <a:tblGrid>
                <a:gridCol w="2568600"/>
                <a:gridCol w="6577200"/>
              </a:tblGrid>
              <a:tr h="2678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Verb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1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parecen muchos verbos copulativos (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r, estar, parecer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0960" indent="11160"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buSzPct val="100000"/>
                        <a:buBlip>
                          <a:blip r:embed="rId2"/>
                        </a:buBlip>
                        <a:tabLst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e observa que muchas formas verbales  van en presente o pretérito imperfecto de indicativ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32238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Sustan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3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En una descripción son frecuentes los sustantivos, pues es necesario concretar los distintos objetos o conceptos de los que hablamos. En general (descripciones de personas, animales, cosas, paisajes) serán sustantivos concret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Recursos lingüísticos (II)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9440" y="1508040"/>
          <a:ext cx="9437400" cy="5875200"/>
        </p:xfrm>
        <a:graphic>
          <a:graphicData uri="http://schemas.openxmlformats.org/drawingml/2006/table">
            <a:tbl>
              <a:tblPr/>
              <a:tblGrid>
                <a:gridCol w="1943280"/>
                <a:gridCol w="7494120"/>
              </a:tblGrid>
              <a:tr h="998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je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marL="216000" indent="1260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Son muy abundantes, pues sirven para especificar o explicar detal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192636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8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Adverbi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6000" indent="-211320" algn="just">
                        <a:lnSpc>
                          <a:spcPct val="117000"/>
                        </a:lnSpc>
                        <a:spcBef>
                          <a:spcPts val="612"/>
                        </a:spcBef>
                        <a:spcAft>
                          <a:spcPts val="612"/>
                        </a:spcAft>
                        <a:tabLst>
                          <a:tab algn="l" pos="0"/>
                          <a:tab algn="l" pos="216000"/>
                          <a:tab algn="l" pos="663480"/>
                          <a:tab algn="l" pos="1112760"/>
                          <a:tab algn="l" pos="1562040"/>
                          <a:tab algn="l" pos="2011320"/>
                          <a:tab algn="l" pos="2460600"/>
                          <a:tab algn="l" pos="2909880"/>
                          <a:tab algn="l" pos="3359160"/>
                          <a:tab algn="l" pos="3808440"/>
                          <a:tab algn="l" pos="4257720"/>
                          <a:tab algn="l" pos="4707000"/>
                          <a:tab algn="l" pos="5156280"/>
                          <a:tab algn="l" pos="5605560"/>
                          <a:tab algn="l" pos="6054840"/>
                          <a:tab algn="l" pos="6504120"/>
                          <a:tab algn="l" pos="6953400"/>
                          <a:tab algn="l" pos="7402680"/>
                          <a:tab algn="l" pos="7851600"/>
                          <a:tab algn="l" pos="8300880"/>
                          <a:tab algn="l" pos="8750160"/>
                          <a:tab algn="l" pos="919944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Encontraremos adverbios de lugar, de tiempo, de cantidad (como modificadores de adjetivos, muchas veces, para indicar la gradación), y de modo.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29502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Compara-ciones y metáfor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210960" indent="-210960" algn="just">
                        <a:lnSpc>
                          <a:spcPct val="11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210960"/>
                          <a:tab algn="l" pos="658800"/>
                          <a:tab algn="l" pos="1108080"/>
                          <a:tab algn="l" pos="1557360"/>
                          <a:tab algn="l" pos="2006640"/>
                          <a:tab algn="l" pos="2455920"/>
                          <a:tab algn="l" pos="2905200"/>
                          <a:tab algn="l" pos="3354480"/>
                          <a:tab algn="l" pos="3803760"/>
                          <a:tab algn="l" pos="4253040"/>
                          <a:tab algn="l" pos="4702320"/>
                          <a:tab algn="l" pos="5151600"/>
                          <a:tab algn="l" pos="5600880"/>
                          <a:tab algn="l" pos="6049800"/>
                          <a:tab algn="l" pos="6499080"/>
                          <a:tab algn="l" pos="6948360"/>
                          <a:tab algn="l" pos="7397640"/>
                          <a:tab algn="l" pos="7846920"/>
                          <a:tab algn="l" pos="8296200"/>
                          <a:tab algn="l" pos="8745480"/>
                          <a:tab algn="l" pos="919476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 veces encontraremos diversas comparacio- nes ("símiles"), que sirven para ejemplificar, explicar o insistir (es decir, enfatizar) algunos detalles. En los textos descriptivos de tipo literario encontraremos muchas veces metáforas.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6000"/>
            <a:ext cx="90727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EL TEXTO DESCRIPTIVO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Comic Sans MS"/>
              </a:rPr>
              <a:t> Esquema resumen</a:t>
            </a:r>
            <a:br>
              <a:rPr sz="2800"/>
            </a:br>
            <a:r>
              <a:rPr b="1" lang="es-ES" sz="45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52360" y="2664000"/>
          <a:ext cx="7704000" cy="2664720"/>
        </p:xfrm>
        <a:graphic>
          <a:graphicData uri="http://schemas.openxmlformats.org/drawingml/2006/table">
            <a:tbl>
              <a:tblPr/>
              <a:tblGrid>
                <a:gridCol w="7704000"/>
              </a:tblGrid>
              <a:tr h="266472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37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Microsoft YaHei"/>
                        </a:rPr>
                        <a:t>A continuación, para finalizar, te presentamos un mapa conceptual sobre la elaboración de un texto descriptivo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1640" y="324000"/>
            <a:ext cx="9291960" cy="6968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05:50:01Z</dcterms:created>
  <dc:creator>Guillermo </dc:creator>
  <dc:description/>
  <dc:language>en-US</dc:language>
  <cp:lastModifiedBy>Guillermo</cp:lastModifiedBy>
  <dcterms:modified xsi:type="dcterms:W3CDTF">2014-07-19T07:13:26Z</dcterms:modified>
  <cp:revision>15</cp:revision>
  <dc:subject/>
  <dc:title>EL TEXTO DESCRIPTIVO  </dc:title>
</cp:coreProperties>
</file>