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D63-B7D5-4BD7-9924-96F4DE23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A9F-4ABB-4036-B3E2-E22054B5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739-05FB-4262-99D0-82A245E2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A37-2AD8-4226-8FA2-FBA9D5BD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6176-E60A-4339-8DE2-7B06E471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430E-E45D-42A1-81EE-152AB3F9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0FF6-4D9C-48D4-8CBF-828E3AED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15EE-661D-4EC1-80E1-D1819274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8E4B-7FC2-445F-A319-DC1026C4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4720" y="306000"/>
            <a:ext cx="9072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B9BA-19EC-44A1-BC68-C594BF98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84C7-E00F-47F7-882C-BF1B3520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202-A2C3-400B-9DF7-722D3F19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18A8-FCBB-4977-B204-C41F3D0B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F50D-F6C9-485B-A001-9A1533E0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335F-F0AF-475A-B35B-379395F3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68E4-4063-41D2-A0BF-E39BF5B1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228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39840" y="176328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72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228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39840" y="4372200"/>
            <a:ext cx="292104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DEDE-7D3F-4E33-95A1-8A1FE95C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49ED-FD32-4B90-B8F9-8CD879AA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D83-7728-4C4B-B53E-6A0D9D37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B3F-645D-4DCC-8511-10F966BA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04720" y="306000"/>
            <a:ext cx="90727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FF6-0F4F-422A-9287-D175EED9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A39-3157-4159-A819-5EDDA7F3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53760" y="437220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561-3779-47A3-B8EE-9630B97C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3760" y="1763280"/>
            <a:ext cx="442728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4720" y="4372200"/>
            <a:ext cx="9072720" cy="2382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F2F-B7D1-469E-A14B-0F5FAA9B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80360" cy="7643520"/>
            <a:chOff x="0" y="0"/>
            <a:chExt cx="10080360" cy="7643520"/>
          </a:xfrm>
        </p:grpSpPr>
        <p:sp>
          <p:nvSpPr>
            <p:cNvPr id="1" name=""/>
            <p:cNvSpPr/>
            <p:nvPr/>
          </p:nvSpPr>
          <p:spPr>
            <a:xfrm>
              <a:off x="0" y="3863880"/>
              <a:ext cx="4401360" cy="344700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367880"/>
              <a:ext cx="3695760" cy="2806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660840" y="5657400"/>
              <a:ext cx="6419160" cy="1649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16920"/>
              <a:ext cx="1702800" cy="209088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79280" y="1440"/>
              <a:ext cx="4497480" cy="3965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168960" y="1440"/>
              <a:ext cx="3824280" cy="26388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135440"/>
              <a:ext cx="1427760" cy="141012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3600"/>
              <a:ext cx="1333440" cy="18720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49640" y="6004080"/>
              <a:ext cx="5568840" cy="13035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5880" y="2221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7120" y="2293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705564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7055640"/>
              <a:ext cx="10080360" cy="5878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0640" y="400680"/>
              <a:ext cx="5579280" cy="354168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52240" y="512640"/>
              <a:ext cx="3751920" cy="31269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31080" y="3023640"/>
              <a:ext cx="4949280" cy="4140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530320" y="3254760"/>
              <a:ext cx="3783600" cy="3384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504720" y="1763280"/>
            <a:ext cx="907272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5CAE95B5-EC75-4B9B-B3A9-0D5EB0178C75}" type="slidenum"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0080360" cy="7643520"/>
            <a:chOff x="0" y="0"/>
            <a:chExt cx="10080360" cy="7643520"/>
          </a:xfrm>
        </p:grpSpPr>
        <p:sp>
          <p:nvSpPr>
            <p:cNvPr id="61" name=""/>
            <p:cNvSpPr/>
            <p:nvPr/>
          </p:nvSpPr>
          <p:spPr>
            <a:xfrm>
              <a:off x="0" y="3863880"/>
              <a:ext cx="4401360" cy="344700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367880"/>
              <a:ext cx="3695760" cy="280656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60840" y="5657400"/>
              <a:ext cx="6419160" cy="1649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916920"/>
              <a:ext cx="1702800" cy="209088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79280" y="1440"/>
              <a:ext cx="4497480" cy="39654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68960" y="1440"/>
              <a:ext cx="3824280" cy="26388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135440"/>
              <a:ext cx="1427760" cy="141012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703600"/>
              <a:ext cx="1333440" cy="18720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49640" y="6004080"/>
              <a:ext cx="5568840" cy="13035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5880" y="2221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7120" y="22932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705564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7055640"/>
              <a:ext cx="10080360" cy="5878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10080360" cy="5036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0640" y="400680"/>
              <a:ext cx="5579280" cy="354168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52240" y="512640"/>
              <a:ext cx="3751920" cy="31269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31080" y="3023640"/>
              <a:ext cx="4949280" cy="4140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30320" y="3254760"/>
              <a:ext cx="3783600" cy="33840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016000"/>
            <a:ext cx="8569440" cy="1914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504360" y="6888240"/>
            <a:ext cx="235116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24480" y="6888240"/>
            <a:ext cx="235260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03C990F8-5F4C-47F3-A174-EB95DFB8FA58}" type="slidenum"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EXPOSITIVO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04720" y="1768320"/>
          <a:ext cx="9215280" cy="5035320"/>
        </p:xfrm>
        <a:graphic>
          <a:graphicData uri="http://schemas.openxmlformats.org/drawingml/2006/table">
            <a:tbl>
              <a:tblPr/>
              <a:tblGrid>
                <a:gridCol w="9215280"/>
              </a:tblGrid>
              <a:tr h="5459040">
                <a:tc>
                  <a:txBody>
                    <a:bodyPr lIns="90000" rIns="90000" tIns="58320" bIns="4680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texto expositivo es un texto en el cual se presenta información sobre un determinado tema.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No se pretende transmitir una opinión. Si se hace, entonces estamos ante un texto expositivo-argumentativo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edomina la función representativa (también llamada “referencial”) del lenguaj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7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us características son la claridad, la precisión y la objetividad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16000" y="2124000"/>
          <a:ext cx="9577440" cy="504036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04036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ronológic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sigue las pautas de una secuencia narrativa, presentando un proceso a lo largo del tiemp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frecuencia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en la presentación de datos, es posible poner primero los aspectos más frecuentes o importantes, para luego pasar a indicar, en orden de frecuencia o importancia, el rest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intetizante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la exposición va de lo más particular a lo más general; se presenta una serie de datos o posibilidades para luego ofrecer generalizaciones.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ste orden se denomina también “inductivo”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16000" y="1835280"/>
          <a:ext cx="9577440" cy="554472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54472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ausal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iertos aspectos determinan otros, es decir, de ellos resultan consecuenc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para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mejanzas entre dos fenómenos. Puede ser útil para ejemplificar o aclarar las cos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traste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 la inversa, señalamos las diferenc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umera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esentar los datos en una lista. Es una secuencia descriptiva.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Funcional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qué sirve una cosa, o una parte de esa cos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oblema-solución: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nte un problema dado, podemos señalar las soluciones que se han propuesto o llevado a cabo, sin tomar partid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16000" y="1547640"/>
          <a:ext cx="9577440" cy="5896080"/>
        </p:xfrm>
        <a:graphic>
          <a:graphicData uri="http://schemas.openxmlformats.org/drawingml/2006/table">
            <a:tbl>
              <a:tblPr/>
              <a:tblGrid>
                <a:gridCol w="4464000"/>
                <a:gridCol w="5113440"/>
              </a:tblGrid>
              <a:tr h="1395720">
                <a:tc gridSpan="2"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SU GRADO DE DIFICULTAD</a:t>
                      </a:r>
                      <a:r>
                        <a:rPr b="0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568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XPOSICIÓN DIVULGATIVA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público no es especializado. El lenguaje es sencillo, sin gran complicación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261468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XPOSICIÓN ESPECIALIZADA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úblico con conocimientos pre-vios en la materia. Lenguaje complicado, con tecnicismos propios de la materia tratada, fórmulas especiales, etc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0360" y="1835280"/>
          <a:ext cx="9217080" cy="4968720"/>
        </p:xfrm>
        <a:graphic>
          <a:graphicData uri="http://schemas.openxmlformats.org/drawingml/2006/table">
            <a:tbl>
              <a:tblPr/>
              <a:tblGrid>
                <a:gridCol w="9217080"/>
              </a:tblGrid>
              <a:tr h="1034640">
                <a:tc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EL CANAL Y EL FORMATO (I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R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3934080">
                <a:tc>
                  <a:txBody>
                    <a:bodyPr lIns="90000" rIns="90000" tIns="57600" bIns="46800" anchor="t" anchorCtr="1">
                      <a:noAutofit/>
                    </a:bodyPr>
                    <a:p>
                      <a:pPr indent="3650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nferenci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lase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ocumental televis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elediari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ocumental radiofónic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LASIFICACIONES DEL TEXTO EXPOSITIVO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60360" y="1835280"/>
          <a:ext cx="9217080" cy="5400720"/>
        </p:xfrm>
        <a:graphic>
          <a:graphicData uri="http://schemas.openxmlformats.org/drawingml/2006/table">
            <a:tbl>
              <a:tblPr/>
              <a:tblGrid>
                <a:gridCol w="9217080"/>
              </a:tblGrid>
              <a:tr h="1035000">
                <a:tc>
                  <a:txBody>
                    <a:bodyPr lIns="90000" rIns="90000" tIns="576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EGÚN EL CANAL Y EL FORMATO (II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SCRI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365720">
                <a:tc>
                  <a:txBody>
                    <a:bodyPr lIns="90000" rIns="90000" tIns="57600" bIns="46800" anchor="t" anchorCtr="1">
                      <a:noAutofit/>
                    </a:bodyPr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rabajo de investigació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ibro de text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rtículo informativo de un periódico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Informe de procesos o resultado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iccionarios y encicloped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cta de una reunió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urrículum vitae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visos informativo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6699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claridad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7280" y="1403280"/>
          <a:ext cx="9433080" cy="587376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480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conseguir una mayor claridad, debemo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6896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ividir en párraf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ner subtítulos y emplear sistemas de enumeración (es decir, hacer lista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Incluir elementos gráficos: mapas, fotos, esquema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mplear un lenguaje adecuado, con oraciones brev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lantear aclaraciones y ejemplificacion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Utilizar los marcadores del discurso y conectores más convenie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28872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precisión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7280" y="1403280"/>
          <a:ext cx="9433080" cy="587376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480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conseguir una mayor precisión, debemo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526896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49"/>
                        </a:spcBef>
                        <a:spcAft>
                          <a:spcPts val="975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mplean palabras monosémicas, es decir, de un solo significado. En textos científicos y técnicos aparecen los “tecnicismos”, palabras propias de una ciencia o técnic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49"/>
                        </a:spcBef>
                        <a:spcAft>
                          <a:spcPts val="975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xpresan muchas definiciones, para dejar claros los conceptos. Por ello, encontraremos muchas oraciones copulativas con el verbo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r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, que definirán los conceptos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7280" y="306360"/>
            <a:ext cx="9506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CARACTERÍSTICAS DEL TEXTO EXPOSITIVO (III)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La objetividad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7280" y="1908000"/>
          <a:ext cx="9433080" cy="515808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605160">
                <a:tc>
                  <a:txBody>
                    <a:bodyPr lIns="90000" rIns="90000" tIns="58320" bIns="468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ara presentar objetividad, tengamos en cuenta qu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552920"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85680"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los textos expositivos no se expresa la opinión del autor, ni sus gustos, sentimientos, o preferencias. Por ell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. Hay pocos adjetivos, en general con valor especificat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emplea el modo indicativo, con valor intemporal (es decir, que vale para todo tiempo y lugar)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utiliza la tercera persona, en oraciones de modalidad enunciativ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27144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943840"/>
                          <a:tab algn="l" pos="9937800"/>
                          <a:tab algn="l" pos="10931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e recurre con frecuencia a oraciones impersonales o de pasiva refleja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Conectores y marcadores del discurso (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04720" y="1768320"/>
          <a:ext cx="9215280" cy="4819320"/>
        </p:xfrm>
        <a:graphic>
          <a:graphicData uri="http://schemas.openxmlformats.org/drawingml/2006/table">
            <a:tbl>
              <a:tblPr/>
              <a:tblGrid>
                <a:gridCol w="9215280"/>
              </a:tblGrid>
              <a:tr h="98496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ganización tex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8343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gener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primer lugar, en segundo lugar, en resumen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espaci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el exterior, en el interior, dentro, fuera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rdenación temporal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rimero, luego, después, mientras, al final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onectores y marcadores del discurso (II)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04720" y="1768320"/>
          <a:ext cx="9072720" cy="5073840"/>
        </p:xfrm>
        <a:graphic>
          <a:graphicData uri="http://schemas.openxmlformats.org/drawingml/2006/table">
            <a:tbl>
              <a:tblPr/>
              <a:tblGrid>
                <a:gridCol w="9072720"/>
              </a:tblGrid>
              <a:tr h="78732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ect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2908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adición y enumera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emás, y, también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ausa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que, ya que, dado que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mpara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o, al igual que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dición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i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secuencia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 tanto, por ello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contraste: </a:t>
                      </a:r>
                      <a:r>
                        <a:rPr b="0" i="1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ero, en cambio, sin embargo, etc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4" marL="6013440" indent="-252360" algn="ctr"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(Sigu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TEXTOS EXPOSITIVO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onectores y marcadores del discurso (III)</a:t>
            </a: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79640" y="1908000"/>
          <a:ext cx="7993080" cy="42357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787680">
                <a:tc>
                  <a:txBody>
                    <a:bodyPr lIns="90000" rIns="90000" tIns="144000" bIns="144000" anchor="ctr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nect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44808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ejemplificación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por ejemplo, et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explicación: 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 otras palabras, es decir, etc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finalidad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 fin de, para, etc.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4343400"/>
                          <a:tab algn="l" pos="5065560"/>
                          <a:tab algn="l" pos="5553000"/>
                          <a:tab algn="l" pos="565308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 oposición: </a:t>
                      </a:r>
                      <a:r>
                        <a:rPr b="0" i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unque, etc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general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60360" y="1763640"/>
          <a:ext cx="9433080" cy="5467320"/>
        </p:xfrm>
        <a:graphic>
          <a:graphicData uri="http://schemas.openxmlformats.org/drawingml/2006/table">
            <a:tbl>
              <a:tblPr/>
              <a:tblGrid>
                <a:gridCol w="9433080"/>
              </a:tblGrid>
              <a:tr h="5609160">
                <a:tc>
                  <a:txBody>
                    <a:bodyPr lIns="90000" rIns="90000" tIns="5832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Un texto expositivo se divide en introducción, desarrollo y cierre o conclusión: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Introducción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se concreta y presenta el tem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Desarroll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(también llamado "cuerpo de la exposición"): explicación de tema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74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ierre o conclusión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breve resumen o recapitulación; a veces puede faltar.</a:t>
                      </a:r>
                      <a:r>
                        <a:rPr b="0" lang="es-ES" sz="31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STRUCTURA DEL TEXTO EXPOSITIVO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rden de la estructuración (I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6000" y="1908000"/>
          <a:ext cx="9577440" cy="5040360"/>
        </p:xfrm>
        <a:graphic>
          <a:graphicData uri="http://schemas.openxmlformats.org/drawingml/2006/table">
            <a:tbl>
              <a:tblPr/>
              <a:tblGrid>
                <a:gridCol w="9577440"/>
              </a:tblGrid>
              <a:tr h="5040360">
                <a:tc>
                  <a:txBody>
                    <a:bodyPr lIns="90000" rIns="90000" tIns="58320" bIns="46800" anchor="ctr">
                      <a:noAutofit/>
                    </a:bodyPr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lfabétic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es el orden más sencillo, propio de glosarios, diccionarios y enciclopedia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nalizante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descripción de las diversas partes en que se compone alg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365040"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cc"/>
                        </a:buClr>
                        <a:buSzPct val="60000"/>
                        <a:buFont typeface="Comic Sans MS"/>
                        <a:buChar char="•"/>
                        <a:tabLst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1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lasificatorio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: presenta tipos o clases, que reúnen elementos que tienen algo en común, que define la clase.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5560"/>
                          <a:tab algn="l" pos="5791320"/>
                          <a:tab algn="l" pos="6515280"/>
                          <a:tab algn="l" pos="7237440"/>
                          <a:tab algn="l" pos="7961400"/>
                          <a:tab algn="l" pos="8686800"/>
                          <a:tab algn="l" pos="9072720"/>
                          <a:tab algn="l" pos="1008072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l criterio analizante, y el clasificatorio, se pueden incluir en una categoría más general: la estructura "deductiva", llamada así porque pasa de lo más general a lo más particular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5:50:01Z</dcterms:created>
  <dc:creator>Guillermo </dc:creator>
  <dc:description/>
  <dc:language>en-US</dc:language>
  <cp:lastModifiedBy>Guillermo</cp:lastModifiedBy>
  <dcterms:modified xsi:type="dcterms:W3CDTF">2014-07-19T11:38:53Z</dcterms:modified>
  <cp:revision>17</cp:revision>
  <dc:subject/>
  <dc:title>EL TEXTO DESCRIPTIVO  </dc:title>
</cp:coreProperties>
</file>