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E8CC-D4FD-4728-ABE2-B2FDF259A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6AB2-BBBE-4956-8A0E-962C13B69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5C25-FDA5-4322-9526-30FD3EB66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B9CA-6423-4DE5-A4F1-CAD4E8286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C6A0F-295F-46E4-B0FE-B1458C250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88440-D55A-49C4-AC8A-26674F5B8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1075E-B602-49BC-B74C-F62A5C0C8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D5FA9-99D0-434D-B304-083A45304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64FFE-AB65-4681-8AD0-45362FF96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B65F8-659E-4A82-9E08-9E8067228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FCDE5-59B2-4814-B05B-BF1DB76F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9D21-717C-4FDB-A850-B77012DAD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6E302-EE1A-42FD-A6A4-6A1F47C4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00F01-0DAD-4A20-B37E-11FD458D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4C828-287B-4CAD-98FD-0098F465A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ECC3C-563C-401E-8E04-23649EC3C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7E02E-6210-46E6-87B5-33163FB42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6540-4704-426A-84F4-4DDE3718A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2D57-21CB-4D20-9345-076365D7C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94E9-BC72-43A6-AB2A-8D443DE0A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D4BE-C6A7-46E2-8269-645A245DA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5F81-0897-4854-88BF-66B8C2B2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F2CA-04FF-4431-B34B-C63BA49F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2349-7514-4E84-9253-5E463D6E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C2B76-D906-4F9C-B005-BC82A48B91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4F399-EC0E-4A5B-A17C-030FD99743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Comic Sans MS"/>
              </a:rPr>
              <a:t>El texto argumentativo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gunda par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Comic Sans MS"/>
              </a:rPr>
              <a:t>La objeció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0356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l argumentar hay que saber presentar objeciones ante los argumentos de los demás, saber expresar nuestro desacuerdo y explicar por qué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903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9036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8000"/>
                </a:solidFill>
                <a:latin typeface="Comic Sans MS"/>
              </a:rPr>
              <a:t>Es una pena que no dejen ir a los perros a la mayoría de las playas. La gente que está de acuerdo cree que molestan y ensucian; pero no tienen en cuenta que hay personas que también </a:t>
            </a:r>
            <a:r>
              <a:rPr b="0" i="1" lang="en-US" sz="2800" spc="-1" strike="noStrike" u="sng">
                <a:solidFill>
                  <a:srgbClr val="008000"/>
                </a:solidFill>
                <a:uFillTx/>
                <a:latin typeface="Comic Sans MS"/>
              </a:rPr>
              <a:t>molestan, y mucho (gritan, ponen la radio a todo volumen, juegan a la pelota sin importarles si dan a alguien), y ensuciar no digam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Comic Sans MS"/>
              </a:rPr>
              <a:t>Dar y escuchar opinion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3456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903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uando damos opiniones, o cuando escuchamos las de los demás, y cuando entramos en razonamientos, estamos argumentan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903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l hacerlo nos aparecen diversas posibilidades.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Comic Sans MS"/>
              </a:rPr>
              <a:t>Cómo expresarnos cuando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  que dice otra persona es cierto, pero no en su totalidad: 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oncesión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Queremos corregir, concretar algo que hemos dicho: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corrección</a:t>
            </a:r>
            <a:r>
              <a:rPr b="1" lang="en-US" sz="2800" spc="-1" strike="noStrike">
                <a:solidFill>
                  <a:srgbClr val="cccc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</a:t>
            </a:r>
            <a:r>
              <a:rPr b="1" lang="en-US" sz="2800" spc="-1" strike="noStrike">
                <a:solidFill>
                  <a:srgbClr val="cccc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ejemplificación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Queremos destacar lo important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:</a:t>
            </a:r>
            <a:r>
              <a:rPr b="1" lang="en-US" sz="2800" spc="-1" strike="noStrike">
                <a:solidFill>
                  <a:srgbClr val="cccc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énfasis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o estamos seguros de algo: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hipótesi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enemos que concretar la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finalidad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ebemos indicar las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causa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consecuencia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Queremos explicar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por qué no estamos de acuerdo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Comic Sans MS"/>
              </a:rPr>
              <a:t>La concesió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280360" cy="4680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La concesión es una </a:t>
            </a: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contraargumentación.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 Consiste en aceptar que una persona tiene razón en algún aspecto, pero se olvida de algo para nosotros fundamenta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0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00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i="1" lang="es-ES" sz="2400" spc="-1" strike="noStrike">
                <a:solidFill>
                  <a:srgbClr val="008000"/>
                </a:solidFill>
                <a:latin typeface="Comic Sans MS"/>
              </a:rPr>
              <a:t>Aunque es cierto que .......  eso no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000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i="1" lang="es-ES" sz="2400" spc="-1" strike="noStrike">
                <a:solidFill>
                  <a:srgbClr val="008000"/>
                </a:solidFill>
                <a:latin typeface="Comic Sans MS"/>
              </a:rPr>
              <a:t>Es verdad que ... pero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000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i="1" lang="es-ES" sz="2400" spc="-1" strike="noStrike">
                <a:solidFill>
                  <a:srgbClr val="008000"/>
                </a:solidFill>
                <a:latin typeface="Comic Sans MS"/>
              </a:rPr>
              <a:t>Hay que reconocer que tienen parte de razón, pero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000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i="1" lang="es-ES" sz="2400" spc="-1" strike="noStrike">
                <a:solidFill>
                  <a:srgbClr val="008000"/>
                </a:solidFill>
                <a:latin typeface="Comic Sans MS"/>
              </a:rPr>
              <a:t>Estoy de acuerdo con los que dicen que ..., sin embargo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000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i="1" lang="es-ES" sz="2400" spc="-1" strike="noStrike">
                <a:solidFill>
                  <a:srgbClr val="008000"/>
                </a:solidFill>
                <a:latin typeface="Comic Sans MS"/>
              </a:rPr>
              <a:t>Muchas personas dicen que ... pero no se dan cuenta de que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Comic Sans MS"/>
              </a:rPr>
              <a:t>Corrección y ejemplificació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0608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Podemos corregir algo que hemos escrito justo antes, concretarlo, matizarlo y detallarlo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810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8000"/>
                </a:solidFill>
                <a:latin typeface="Comic Sans MS"/>
              </a:rPr>
              <a:t>   </a:t>
            </a:r>
            <a:r>
              <a:rPr b="0" i="1" lang="es-ES" sz="2800" spc="-1" strike="noStrike">
                <a:solidFill>
                  <a:srgbClr val="008000"/>
                </a:solidFill>
                <a:latin typeface="Comic Sans MS"/>
              </a:rPr>
              <a:t>Los entrenadores de fútbol tienen que tener en cuenta muchas cosas; </a:t>
            </a:r>
            <a:r>
              <a:rPr b="0" i="1" lang="es-ES" sz="2800" spc="-1" strike="noStrike" u="sng">
                <a:solidFill>
                  <a:srgbClr val="008000"/>
                </a:solidFill>
                <a:uFillTx/>
                <a:latin typeface="Comic Sans MS"/>
              </a:rPr>
              <a:t>mejor dicho</a:t>
            </a:r>
            <a:r>
              <a:rPr b="0" i="1" lang="es-ES" sz="2800" spc="-1" strike="noStrike">
                <a:solidFill>
                  <a:srgbClr val="008000"/>
                </a:solidFill>
                <a:latin typeface="Comic Sans MS"/>
              </a:rPr>
              <a:t>, mu-chísimas cosas </a:t>
            </a:r>
            <a:r>
              <a:rPr b="0" lang="es-ES" sz="2800" spc="-1" strike="noStrike">
                <a:solidFill>
                  <a:srgbClr val="008000"/>
                </a:solidFill>
                <a:latin typeface="Comic Sans MS"/>
              </a:rPr>
              <a:t>[y damos una lista]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10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i="1" lang="es-ES" sz="2800" spc="-1" strike="noStrike">
                <a:solidFill>
                  <a:srgbClr val="008000"/>
                </a:solidFill>
                <a:latin typeface="Comic Sans MS"/>
              </a:rPr>
              <a:t>Tienen que tener en cuenta muchas cosas, </a:t>
            </a:r>
            <a:r>
              <a:rPr b="0" i="1" lang="es-ES" sz="2800" spc="-1" strike="noStrike" u="sng">
                <a:solidFill>
                  <a:srgbClr val="008000"/>
                </a:solidFill>
                <a:uFillTx/>
                <a:latin typeface="Comic Sans MS"/>
              </a:rPr>
              <a:t>por</a:t>
            </a:r>
            <a:r>
              <a:rPr b="0" i="1" lang="es-ES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i="1" lang="es-ES" sz="2800" spc="-1" strike="noStrike" u="sng">
                <a:solidFill>
                  <a:srgbClr val="008000"/>
                </a:solidFill>
                <a:uFillTx/>
                <a:latin typeface="Comic Sans MS"/>
              </a:rPr>
              <a:t>ejemplo</a:t>
            </a:r>
            <a:r>
              <a:rPr b="0" lang="es-ES" sz="2800" spc="-1" strike="noStrike">
                <a:solidFill>
                  <a:srgbClr val="008000"/>
                </a:solidFill>
                <a:latin typeface="Comic Sans MS"/>
              </a:rPr>
              <a:t> 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Comic Sans MS"/>
              </a:rPr>
              <a:t>El énfasis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uando damos nuestro punto de vista sobre algo, tenemos que tener un enfoque personal. Damos importancia a ciertas cosas, y no se la damos a otr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1080" indent="36036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A la hora d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8000"/>
                </a:solidFill>
                <a:latin typeface="Comic Sans MS"/>
              </a:rPr>
              <a:t>hacer un ejercicio físico es </a:t>
            </a:r>
            <a:r>
              <a:rPr b="0" i="1" lang="en-US" sz="2800" spc="-1" strike="noStrike" u="sng">
                <a:solidFill>
                  <a:srgbClr val="008000"/>
                </a:solidFill>
                <a:uFillTx/>
                <a:latin typeface="Comic Sans MS"/>
              </a:rPr>
              <a:t>muy importante</a:t>
            </a:r>
            <a:r>
              <a:rPr b="0" i="1" lang="en-US" sz="2800" spc="-1" strike="noStrike">
                <a:solidFill>
                  <a:srgbClr val="008000"/>
                </a:solidFill>
                <a:latin typeface="Comic Sans MS"/>
              </a:rPr>
              <a:t> hacer ejercicios de calentamiento.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1080" indent="36036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8000"/>
                </a:solidFill>
                <a:uFillTx/>
                <a:latin typeface="Comic Sans MS"/>
              </a:rPr>
              <a:t>Incluso</a:t>
            </a:r>
            <a:r>
              <a:rPr b="0" i="1" lang="en-US" sz="2800" spc="-1" strike="noStrike">
                <a:solidFill>
                  <a:srgbClr val="008000"/>
                </a:solidFill>
                <a:latin typeface="Comic Sans MS"/>
              </a:rPr>
              <a:t> hay estudios que demuestran que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 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1080" indent="36036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8000"/>
                </a:solidFill>
                <a:uFillTx/>
                <a:latin typeface="Comic Sans MS"/>
              </a:rPr>
              <a:t>Hasta</a:t>
            </a:r>
            <a:r>
              <a:rPr b="0" i="1" lang="en-US" sz="2800" spc="-1" strike="noStrike">
                <a:solidFill>
                  <a:srgbClr val="008000"/>
                </a:solidFill>
                <a:latin typeface="Comic Sans MS"/>
              </a:rPr>
              <a:t> quien es muy listo se equivoca a veces.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Comic Sans MS"/>
              </a:rPr>
              <a:t>La hipótesis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Una suposición nos permite dar razones, pues nos apoyamos en los efectos previstos, y podemos tener en cuenta si son positiv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1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81080" indent="26964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Comic Sans MS"/>
              </a:rPr>
              <a:t>Supongamos que todos hiciéramos lo que nos diera la gana. ¿Que ocurriría? Pues que 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[...] </a:t>
            </a:r>
            <a:r>
              <a:rPr b="0" i="1" lang="en-US" sz="2800" spc="-1" strike="noStrike">
                <a:solidFill>
                  <a:srgbClr val="008000"/>
                </a:solidFill>
                <a:latin typeface="Comic Sans MS"/>
              </a:rPr>
              <a:t>por eso 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[...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Comic Sans MS"/>
              </a:rPr>
              <a:t>La finalidad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uchas veces hacemos cosas teniendo en cuenta un fin, por ello, cuando argumentamos, podemos relacionar ideas con los fines que nos proponem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27000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i="1" lang="en-US" sz="2800" spc="-1" strike="noStrike" u="sng">
                <a:solidFill>
                  <a:srgbClr val="008000"/>
                </a:solidFill>
                <a:uFillTx/>
                <a:latin typeface="Comic Sans MS"/>
              </a:rPr>
              <a:t>Si</a:t>
            </a:r>
            <a:r>
              <a:rPr b="0" i="1" lang="en-US" sz="2800" spc="-1" strike="noStrike">
                <a:solidFill>
                  <a:srgbClr val="008000"/>
                </a:solidFill>
                <a:latin typeface="Comic Sans MS"/>
              </a:rPr>
              <a:t> queremos que </a:t>
            </a:r>
            <a:r>
              <a:rPr b="0" i="1" lang="en-US" sz="2800" spc="-1" strike="noStrike" u="sng">
                <a:solidFill>
                  <a:srgbClr val="008000"/>
                </a:solidFill>
                <a:uFillTx/>
                <a:latin typeface="Comic Sans MS"/>
              </a:rPr>
              <a:t>haya un mejor clima en clase</a:t>
            </a: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[observa que estamos planteando una condición, y una finalidad en la que todos estamos de acuerdo] </a:t>
            </a:r>
            <a:r>
              <a:rPr b="0" i="1" lang="en-US" sz="2800" spc="-1" strike="noStrike" u="sng">
                <a:solidFill>
                  <a:srgbClr val="008000"/>
                </a:solidFill>
                <a:uFillTx/>
                <a:latin typeface="Comic Sans MS"/>
              </a:rPr>
              <a:t>entonces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[consecuencia]</a:t>
            </a:r>
            <a:r>
              <a:rPr b="0" i="1" lang="en-US" sz="2800" spc="-1" strike="noStrike">
                <a:solidFill>
                  <a:srgbClr val="008000"/>
                </a:solidFill>
                <a:latin typeface="Comic Sans MS"/>
              </a:rPr>
              <a:t> todos deberíamos poner algo de nuestra parte</a:t>
            </a: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Comic Sans MS"/>
              </a:rPr>
              <a:t>La causa y la consecuenci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39891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l hablar de una causa, el nexo más usual es la conjunción "porque“, pero hay otras posibilidades: </a:t>
            </a:r>
            <a:r>
              <a:rPr b="0" i="1" lang="en-US" sz="2800" spc="-1" strike="noStrike">
                <a:solidFill>
                  <a:srgbClr val="008000"/>
                </a:solidFill>
                <a:latin typeface="Comic Sans MS"/>
              </a:rPr>
              <a:t>ya que, dado que, pues, puesto que, visto que</a:t>
            </a: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as consecuencias se relacionan con las causas; es como el reverso de una medalla. Los conectores que expresan consecuencia son: </a:t>
            </a:r>
            <a:r>
              <a:rPr b="0" i="1" lang="en-US" sz="2800" spc="-1" strike="noStrike">
                <a:solidFill>
                  <a:srgbClr val="008000"/>
                </a:solidFill>
                <a:latin typeface="Comic Sans MS"/>
              </a:rPr>
              <a:t>por tanto, por ello, por eso, en consecuencia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2T16:08:15Z</dcterms:created>
  <dc:creator>Guillermo</dc:creator>
  <dc:description/>
  <dc:language>en-US</dc:language>
  <cp:lastModifiedBy>Guillermo</cp:lastModifiedBy>
  <dcterms:modified xsi:type="dcterms:W3CDTF">2014-07-19T13:06:36Z</dcterms:modified>
  <cp:revision>10</cp:revision>
  <dc:subject/>
  <dc:title>El texto argumentativo</dc:title>
</cp:coreProperties>
</file>