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8C6-6E56-4102-A18E-2AF0651E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FCA-ACE5-4151-B664-6E333325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5FA-6869-4526-A937-731BABB8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384-B4F2-4E55-B599-0968A7B9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D21-EF92-48B8-B056-4375D5A5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AFE-DEF1-4751-B322-DF4A87E2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C17-7EFE-4903-9209-806FFCDF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DF9-49D1-44D0-959D-210016FC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9F2-96F7-4386-8B5C-956DA0B8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378-F1E7-4DF3-8FBE-F3531EFB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636-D1DA-4EB8-9F4F-68CBDC39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687-760B-4207-A0E6-AED01F44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95F-F806-45C4-86B2-A107E0EB4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 acento gráf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ras de acentua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centúanse as seguintes palab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 palabras agudas rematadas en vogal, en –n, -s ou –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 palabras graves cando rematan en consoante distinta de –n, -s, en ditongos decrecent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mábe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 en grupos consonánticos distintos de –ns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(bíceps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 palabras esdrúx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 vogai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,u, tónica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do van antes ou despois dunha vogal átona, para indicar que ambas as vogais non forman dito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gunhas particularida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latinism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palabras estranxeir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uso habitual seguen as regras xerais de acentu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 formas verbais + pronome enclítico ou a 2ª forma do artigo compórtanse coma unha palab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 regras de acentuación son as mesmas para as letras minúsculas e para as maiús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acento diacr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régase o acento gráfico con función diacrítica para distinguir palabras homógrafas que non sexan homóf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do dúas palabras poidan confundirse, pónselle acento á que ten vogal aberta ou á que é tón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lgunhas parellas que se diferencian polo acento diacrí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ó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ó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ómp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ómp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ó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é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á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á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ó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ó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ó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ó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ó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é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é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é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ó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 acentú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 palabras monosiláb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 agudas rematadas en ditongo decrecent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prometeu)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u en –iu, -ui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saltou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s adverbios rematados en –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s demostrativos e mais o indefinido e numeral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s grupos iu, ui cando é tónico o primeiro elemento, pois neste caso forman ditong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tiu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s interrogativos e exclam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s pronomes ti e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 adverbio afirmativo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ampouco se acentúan as seguintes palabr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quidioc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mosf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o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c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oc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ex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lu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r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d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mop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s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x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f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6:04:57Z</dcterms:created>
  <dc:creator>INF</dc:creator>
  <dc:description/>
  <dc:language>en-US</dc:language>
  <cp:lastModifiedBy>INF</cp:lastModifiedBy>
  <dcterms:modified xsi:type="dcterms:W3CDTF">2006-02-12T16:38:40Z</dcterms:modified>
  <cp:revision>2</cp:revision>
  <dc:subject/>
  <dc:title>O acento gráfico</dc:title>
</cp:coreProperties>
</file>