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9D0-03A7-406D-9055-AA1B7039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51D-F0E9-4CC7-AD52-0EDFDBA8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33E-63D8-4F73-93D9-133A31C2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196-AB88-4B7B-9CEC-007BE647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688-E479-46C3-A85B-2AEAA25E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4C0-C20D-4EF6-B0C4-59CCAF28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ECC-DE03-46B5-BB09-0084A804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FA3-1F63-40EC-87E1-868FD7F2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B61-0A09-4EBE-882B-5DD50295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B26-8015-4D66-B079-E100D970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047-4382-4244-8170-EE0E8899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33C-4DD7-45D4-BE63-B7FA2DEB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6DED-F89A-4413-A583-0E708FD89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Ca-, co-, cua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En galego comezan por CA_ palabras com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a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¿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¿can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¿ca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cad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ad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alidade (“característic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galego comezan por CO- palabras com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16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rent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re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En galego comezan por CUA: palabras com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uadrúp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cc66"/>
                </a:solidFill>
                <a:latin typeface="Arial"/>
              </a:rPr>
              <a:t>Cualific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uanti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uart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uar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uart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uarto/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xé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í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ilá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úp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Cuar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pois da reforma normativa de 2003, nos grupos consonántico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99cc00"/>
                </a:solidFill>
                <a:latin typeface="Arial"/>
              </a:rPr>
              <a:t>cc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99cc00"/>
                </a:solidFill>
                <a:latin typeface="Arial"/>
              </a:rPr>
              <a:t> 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uprímese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 consoante que segue as vogais  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produto, conf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20:14:14Z</dcterms:created>
  <dc:creator>beatriz Real pérez</dc:creator>
  <dc:description/>
  <dc:language>en-US</dc:language>
  <cp:lastModifiedBy>INF</cp:lastModifiedBy>
  <dcterms:modified xsi:type="dcterms:W3CDTF">2006-02-12T17:00:44Z</dcterms:modified>
  <cp:revision>4</cp:revision>
  <dc:subject/>
  <dc:title>Ortografía</dc:title>
</cp:coreProperties>
</file>