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0EA-4670-40C1-9347-99D54578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537-450B-435E-B839-01ED9B0D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F06-966D-4A8A-85C1-FF146E04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C52-A26B-4CC5-B266-F7765505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E5C-73D9-4E1E-9F73-6D363EB9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4B4-D210-4916-BCF8-72988ED8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BA8-BE4F-4944-89C8-B7A796F9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2A4-D844-4933-AF25-3381310C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5F4-07B2-43F8-B7D3-24BC2F99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390-9D6B-447F-B481-88780457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F40-26A1-4F60-8420-E2D2B85D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E3A-69F1-4471-8AA2-D8B60E14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3327-C230-486A-9561-8AE888DEC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nt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guión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emprég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a división silábica e en final de li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as palabras compostas cando o primeiro elemento é non (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on-fumador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separar palabras de estreita relación: D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icionario galego-castelá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 dúas datas ou cifr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ai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emprég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indicar cando fala cada personax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enmarcar as aclaracións ou indicacións que cortan os diálo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s dous punt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Ex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A madriña era diferente: riseira e encan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Para marcar o estilo dir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 punto pode empregarse nas seguintes situació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o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unto e segui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p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parar oracións que teñen certa relación no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o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unto e apar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para separar parágrafos que tratan temas diferentes dentro dun tex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o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unto e fin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para indicar o remate dun escr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o final das abreviatu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a fracción das horas: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s 13.50 h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m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emprég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s enderezos, para separar o nome da rúa do número e o piso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úa Brañas, nº 5, 7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s relacións alfabéticas por apelidos: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éndez Barro, I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separar palabras nunha serie ou enumeració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Amaba a paisaxe, as súas cores, a luz, a brisa.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A amizade é unha relación humana que implica coñecemento mutuo, estima e af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mos Anxo, Raúl e mais e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separar oracións curtas nunha enumeración de accións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úxos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de pé, mirou á dereita, mirou á esquerda, acenoulle a un taxi e subiu 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m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emprég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aposicións: 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“Dáme, Señor, paciencia”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intercalar aclaració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Esta mañá, na escola, escoitabamos o ruxir dos alust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-Despois dos aloumiños, dábanos, invariablemente, unhas lambet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Anxo, Raúl e mais eu fomos, por separado, vender rif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tes e despois dos nomes de persoa aos que nos diriximos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nés, vaime buscar a tesoira de g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Habitualmente,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nas oracións compostas 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(as que teñen dous ou máis verbos en forma persoal)</a:t>
            </a: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mprég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91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Arial"/>
              </a:rPr>
              <a:t>Nalgunhas oracións compostas por coordinación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sxuntivas: “ora ri, ora chora”. 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(Pero: “ou ri ou chora”)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stributivas:- Uns veñen, outros 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.    Adversativas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Era pobre, pero honrado; Non me prestan os grelos; así e todo teño que comelos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Explicativas: 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Direicho, xa que mo pregu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Nas oracións compostas subordinadas adverbiai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ndicionais (para separar a prótase da apódose nas oracións subordinadas adverbiais condicionais):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Se non les o texto completo, non entenderás o seu significado.  Se suspendo de novo, na casa hanme berr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ausais (causa e consecuente):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Merquei os iogures naturais, pois os de sabores fanme mal. Como ninguén me avisou, non fun á reun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nsecutivas (antecedente e consecuente):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Xa non podo máis, polo tanto, voume para a cama.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ais non sempre é precisa a coma: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É tan despistado que nin sequera me v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ncesivas (tese e antítese):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Por máis que llo pedín, non mo quixo dar. Mesmo que mo dixese meu pai, non o crer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ais non sempre é precisa a coma: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Irei á praia pese a que chove mo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bserva a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m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das seguintes fr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Déronme a escoller entre Londres e Dublín, dúas das cidades máis interesantes. Eu escollín Londres, pois teño alí un curm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Agarda, que lle quero botar unha oll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Mergulláranse, e o home só fotografara a au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O xastre comeuno todo, e logo dixo: xa non podo máis, polo tanto, voume para a c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A min, ás veces, non me fan caso nin berra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Tendo en conta o seu significado, clasifica as seguintes palabras en tres gru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Os hipopótamos deixaron que o home correse e correse, e así é que cando chegou a tarde, el fotografara vinte veces a au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Costureiriña boni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dáme unha agulla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para sacar esta espi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do corazón, que me 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 a súa ausencia nas seguint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Non nas subordinadas substantivas: 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Pregúntalle como se fai o biscoito. Non lembro cando o vin por última v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Non nas subordinadas adxectivas: 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Esa é a rapariga da que che falei. Deixeino onde o atop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Non nas subordinadas adverbiais finais: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Falei con ela para que me axudase. Leveino á beira do mar a que lle dese o fres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Explica a ausencia nas segui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 profesor non semellaba contento co resultado dos exames e todos calam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Todos estabamos nerviosos porque o director ía subir falar con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ergulláronse e fotografaron a au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garda que lle botemos unha oll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unto e com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emprég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as oracións longas, cando dentro delas xa hai comas, para evitarmos confusió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 frases que expresan un feito e a súa consecuencia: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staba chovendo; quedei na c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por exemplo, mais, pero, non obsta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… en oracións long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32:38Z</dcterms:created>
  <dc:creator>INF</dc:creator>
  <dc:description/>
  <dc:language>en-US</dc:language>
  <cp:lastModifiedBy>sergio</cp:lastModifiedBy>
  <dcterms:modified xsi:type="dcterms:W3CDTF">2009-01-15T08:02:49Z</dcterms:modified>
  <cp:revision>9</cp:revision>
  <dc:subject/>
  <dc:title>Ortografía</dc:title>
</cp:coreProperties>
</file>