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C7C-D2F1-404C-A71E-554E943F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C7A-376B-4752-B962-DF7A9EC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F19-6BFA-4B0C-93F1-E4464324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423-BDB9-456D-BFED-7A2FEEB4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74B-ADEC-4FB1-A206-47B4C32C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425-68F2-49A7-B32E-35637280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F96-A644-41E4-8891-9CFE13F2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C2F-C3D6-4F72-A24B-2656956F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710-0B42-439F-A6BD-3A9EF83F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660-8910-4E35-B983-751D527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B95-383A-4A4F-84E4-AF6F0EEE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7A8-84A4-4658-9ADE-7E03D9C3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ED15-20AD-4A08-9D01-CAA3511DB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eviació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evi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a representación dunha palabra cunha ou máis das súas letras, a primeira delas é a in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cterísticas distin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seguidas de punto (etc.; dpto.; tfn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an acento se o leva a palabra da que procede (páx.; cód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ímb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unha forma abreviada de recoñecemento internacional que na ciencia e na técnica se refire a unha palabra ou a un sintag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cterísticas distin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levan punto ao final (cm, h, m, km…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 propio símbolo recolle o singular e o plural (20 cm, 2 h…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un conxunto de letras que ten como fin a abreviación dunha denominación ampla e que se forma coas formas iniciais das formas pl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cterísticas distintiv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n levan espazo nin punto entre as letras (IVE, DNI, DO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n se acentú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scríbense en maiúsc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ó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a unión de máis dunha letra de todas ou algunha das palabras da denominación completa, para facilitar a súa pronu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racterísticas distin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ó se escribre con maiúscula a letra inicial: Inem (Instituto Nacional de Emprego), Tecor (Terreo cinexéticamente ordenado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14:00:33Z</dcterms:created>
  <dc:creator>INF</dc:creator>
  <dc:description/>
  <dc:language>en-US</dc:language>
  <cp:lastModifiedBy>INF</cp:lastModifiedBy>
  <dcterms:modified xsi:type="dcterms:W3CDTF">2006-08-14T14:13:09Z</dcterms:modified>
  <cp:revision>2</cp:revision>
  <dc:subject/>
  <dc:title>Tipos de </dc:title>
</cp:coreProperties>
</file>