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74C-6AA2-4086-B215-A99214A3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CC6-8E55-46E9-8CF7-FD976629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2AE-CFFD-4932-BB8D-A84A68C0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6C1-24FD-4320-AFF6-FE0A4FC0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910-4DC3-4DEB-9B8C-386C944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AC2-779E-4985-A155-826FD4C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80B-696F-4876-9ACD-BB359CDE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C1C-9082-4A8A-A8BB-2699173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40A-7B78-454D-A9C2-F9D04D62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92B-B9E6-4CF2-B5A1-3ECD6B8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73E-0C03-4002-9C6A-197919D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0D4-66CC-441B-A8EB-E042C88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A382-7D1B-4B15-B5A1-3DDCDC92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o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dxectiv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atados 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avo/-ava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 escravo, oitavo, bravo, cóncav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ave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 suave, grav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evo/-eva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 lonxev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eve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leve, b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ivo/-iva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activo, festivo, altivo, intensivo, cativo, primitivo, decisiv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 ova/-ovo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 nova, n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cc3300"/>
                </a:solidFill>
                <a:latin typeface="Arial"/>
              </a:rPr>
              <a:t>-ívoro/- ívora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: (agás </a:t>
            </a:r>
            <a:r>
              <a:rPr b="0" lang="gl-ES" sz="2400" spc="-1" strike="noStrike">
                <a:solidFill>
                  <a:srgbClr val="99cc00"/>
                </a:solidFill>
                <a:latin typeface="Arial"/>
              </a:rPr>
              <a:t>víbora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): herbívoro, carnívoro, insectívoro, omnív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palabras que empezan por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ad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r, ad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palabras derivadas doutra palabra que se escribe con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itan conservar o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dade, lonxevidade, activist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bras que se escriben con v en galego e non en castel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stel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rer e de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rm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 e de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uelo/A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Gar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n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u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0" y="1196640"/>
            <a:ext cx="4038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Gal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da (do lat. VO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rer e derivados(lat.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verr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ulto (lat.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vultum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rmello (lat. v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ermiculum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gado (lat.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advocatum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 e derivados (l. 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gravare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ó/ A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a (l. vg. a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violum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Gara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nzo (lat. *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arwatius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rde (fr. ant. c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oart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elto (it. s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velto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itre (lat. v</a:t>
            </a:r>
            <a:r>
              <a:rPr b="0" i="1" lang="gl-ES" sz="2000" spc="-1" strike="noStrike">
                <a:solidFill>
                  <a:srgbClr val="000000"/>
                </a:solidFill>
                <a:latin typeface="Arial"/>
              </a:rPr>
              <a:t>ulturem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2:42:29Z</dcterms:created>
  <dc:creator>beatriz Real pérez</dc:creator>
  <dc:description/>
  <dc:language>en-US</dc:language>
  <cp:lastModifiedBy>INF</cp:lastModifiedBy>
  <dcterms:modified xsi:type="dcterms:W3CDTF">2006-02-09T19:04:46Z</dcterms:modified>
  <cp:revision>3</cp:revision>
  <dc:subject/>
  <dc:title>Ortografía</dc:title>
</cp:coreProperties>
</file>