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947-2D31-45A5-81C9-9280BCA4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BFA-38BA-4260-8178-E117FE41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2F4-33FD-46B6-9314-8DE880BA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914-4429-4B21-8B1B-2A9D6D10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94C-4F68-4C2E-A393-32D04FEE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BB5-0985-4FF2-A77A-E14790D4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36D-72BF-4986-A558-C4E00EED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6D5-EB82-4D07-A9A1-48165C7C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26C-24A8-434C-8C0A-7C297AA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155-F87D-40E8-95C4-31078D21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9D3-8F58-4566-AB3D-FB75E026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724-366E-42E2-999A-BB0AD1C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08B-40B2-4260-8AEA-088FC793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labras con algunha dificul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 como se escriben as seguintes palab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dori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as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mb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antax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a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em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ñ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n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n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ri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lf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u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est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r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mp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pí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eg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x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i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u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o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íxate ben n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rminan en –o: ímpeto, tri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rminan en –u os seguintes substantivo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bacallau, pau, chapeu, romeu, xubil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8:00:07Z</dcterms:created>
  <dc:creator>INF</dc:creator>
  <dc:description/>
  <dc:language>en-US</dc:language>
  <cp:lastModifiedBy>INF</cp:lastModifiedBy>
  <dcterms:modified xsi:type="dcterms:W3CDTF">2006-02-12T18:00:07Z</dcterms:modified>
  <cp:revision>1</cp:revision>
  <dc:subject/>
  <dc:title>ortografía</dc:title>
</cp:coreProperties>
</file>