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8FBE-3F20-45FF-869C-7286E3A4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D4DA-36DF-45D7-A2F8-7652ED66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BA6B-4566-43DE-9654-9DF1673EB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7990-FDA2-4EFB-A027-5386564A5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A13F-7259-49B1-884B-1E645B94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A090-A1A3-4720-87DD-7BF77985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22BE-68FD-4B46-A578-5F59B9EB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09D4-7874-456C-9757-95D63909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E939-4F36-422B-AD94-B1D0E807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33CC-4D0C-46DE-BD8C-36D80F28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8BDF-0CA3-498A-8C2C-9A35E8FF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A0A3-FD57-4E7F-81F8-B7E1FCAB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9912-2066-4F60-A62E-F525D6676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t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 guión e a diér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 guión emprégase par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tir unha palabra ao final de liña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caso de palabras derivadas por prefixación recoméndase separar o prefixo da base: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hiper</a:t>
            </a:r>
            <a:r>
              <a:rPr b="0" i="1" lang="es-ES" sz="2000" spc="-1" strike="noStrike">
                <a:solidFill>
                  <a:srgbClr val="a50021"/>
                </a:solidFill>
                <a:latin typeface="Arial"/>
              </a:rPr>
              <a:t>-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/mercado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gás nesta situación, deben escibirse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subdirector, vicedecano, postoperatorio, etc.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única excepción é: ex direct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ir os elementos dalgunhas palabras compostas: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cantigas galego-portugues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as segundas formas do artigo cando estas van despois de formas verbais rematadas en –r ou –s (optativo); cos pronomes nós, vós, nos, vos, lles (optativo).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ó é obrigatori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 adverbio interrogativo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u-los óculos?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 diérese emprégas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bre o u dos grupos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ue, gui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a indicar que se pronuncia o 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a letra i na p4 e p5 do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pretérit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os verbos rematados en –aer, -oer, -aír, -oír para distinguir estas formas das do presente de subxuntivo: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vaïamos, vaia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as mesmas formas dos verbos rematados en –uír, aínda que non hai posibilidade de homonimia: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contribuïamos, contribua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17:43:13Z</dcterms:created>
  <dc:creator>INF</dc:creator>
  <dc:description/>
  <dc:language>en-US</dc:language>
  <cp:lastModifiedBy>Administrador</cp:lastModifiedBy>
  <dcterms:modified xsi:type="dcterms:W3CDTF">2008-05-24T11:44:39Z</dcterms:modified>
  <cp:revision>3</cp:revision>
  <dc:subject/>
  <dc:title>ortografía</dc:title>
</cp:coreProperties>
</file>