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F9D-D096-41B0-90E3-16AFBCEC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EBC-5E9A-4EDA-9CF6-74E3C21D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5E6-9662-4970-A27D-387EB71C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1FC-B767-4CC8-8715-BB0C65C5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F1A-5F9F-42DC-A81B-AA8011C4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D05-970F-4E31-A8BF-D410B080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D57-F56F-4F28-9D7B-868DC176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4BC-B01D-4601-8FCC-259488EE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5B5-DE7F-4665-8221-86394C44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4EB-F258-4405-80D9-1017769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1B6-61F2-4AEC-92F0-800FC5B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755-36DF-4862-B8F6-623F522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431-226F-4C2C-A7D1-58346A7E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os consonán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s grupos consonánticos –pc- e –pt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éñense estes grupos nos cultismo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ceptar, op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den o primeiro elemento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dscrición, cativar, catividade, circunscrición, descrición, ditongo, inscrición, sétimo, setembro, setentrional, subscrición, transcrición, triton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s grupos consonánticos bl, cl, fl, gl, 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blindar, bloque, blusa, público, subl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laro, claridade, declarar, incluír, proclamar, reclam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lan, flanela, flor, flota, rif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glaciar, globo, gl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plicar, copla, diploma, exemplo, placa, plan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s grupos consonánticos br, cr, fr, gr, p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r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brandar, branco, brandir, brasón, dobrar, nobre, nubrar, obrigar, redobr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lmiscre, cravar, cravo, cravuñar, escravo, recrut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frouxar, chifrar, chifre, fraco, frauta, frecha, fregués, fretar, froux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ragrancia, regra, singradura, xogr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pracíbel, aprazar, compracer, cumprir, desprazar, emprego, pracer, prata, prato, prazo, pregar, preito, soprar, sopre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s grupos consonánticos –pn-, -ps-, -pt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oitan escribirse en palabras cultas, aínda que na fala se elimine a primeira consoante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neumático, pseudónimo, psique, psicoloxía, psiquiatría, pterodáctil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7:12:47Z</dcterms:created>
  <dc:creator>INF</dc:creator>
  <dc:description/>
  <dc:language>en-US</dc:language>
  <cp:lastModifiedBy>INF</cp:lastModifiedBy>
  <dcterms:modified xsi:type="dcterms:W3CDTF">2006-02-12T17:59:13Z</dcterms:modified>
  <cp:revision>4</cp:revision>
  <dc:subject/>
  <dc:title>ortografía</dc:title>
</cp:coreProperties>
</file>