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E57-7C03-4CD8-9466-8AE46021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AFD-5608-4920-B337-6AE36B90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6387-D266-4A29-A0A8-14B1CC04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F01-8A26-444D-9845-FD6D7E40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FC0-84E2-4EEA-A10C-EF0A821D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3AE-CB4F-4B85-B5F5-D8F378A0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EC0B-99A4-41D6-8B2C-47ACC3DA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FF0-B45B-4C80-B7FE-6EFFDE42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0BC2-8A68-4C5E-9B9B-B188D6BD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06E-CDB9-437C-BC62-774FCB89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0387-714B-4AF9-8C2E-8D075F07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A79-9A3E-481B-9EC0-E312BC70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691C-7E76-4647-8C69-45C0B5542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o do 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terminacións do imperfecto dos verbos da 1ª conxugación escríbense con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- aba,-abas,- aba,-abamos,-abades,-a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palabras que comezan polas sílabas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u-, bur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us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ríbense con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ás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vuru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s de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 de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ríbese sempre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ás no caso de 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aciv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ríbense con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s verbos rematados en –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ui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–bir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sí como os seus derivad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ás os verbos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ervir, vivir, vi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os seus deriv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abras que se escriben diferente en castelán e gal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Caste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Pulpo: 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cefalóp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0" lang="gl-ES" sz="3200" spc="-1" strike="noStrike">
                <a:solidFill>
                  <a:srgbClr val="99cc00"/>
                </a:solidFill>
                <a:latin typeface="Arial"/>
              </a:rPr>
              <a:t>v</a:t>
            </a: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o: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 terra miúda (lat. </a:t>
            </a:r>
            <a:r>
              <a:rPr b="0" i="1" lang="gl-ES" sz="2400" spc="-1" strike="noStrike">
                <a:solidFill>
                  <a:srgbClr val="000000"/>
                </a:solidFill>
                <a:latin typeface="Arial"/>
              </a:rPr>
              <a:t>pulvus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Mó</a:t>
            </a:r>
            <a:r>
              <a:rPr b="0" lang="gl-ES" sz="3200" spc="-1" strike="noStrike">
                <a:solidFill>
                  <a:srgbClr val="99cc00"/>
                </a:solidFill>
                <a:latin typeface="Arial"/>
              </a:rPr>
              <a:t>v</a:t>
            </a: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e derivados (automóvil, movilid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99cc00"/>
                </a:solidFill>
                <a:latin typeface="Arial"/>
              </a:rPr>
              <a:t>V</a:t>
            </a: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ac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Galego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0" lang="gl-ES" sz="32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cefalópodo (lat. </a:t>
            </a:r>
            <a:r>
              <a:rPr b="0" i="1" lang="gl-ES" sz="2400" spc="-1" strike="noStrike">
                <a:solidFill>
                  <a:srgbClr val="000000"/>
                </a:solidFill>
                <a:latin typeface="Arial"/>
              </a:rPr>
              <a:t>polypum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Pó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terra miú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Mó</a:t>
            </a:r>
            <a:r>
              <a:rPr b="0" lang="gl-ES" sz="32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 e derivados (lat. </a:t>
            </a:r>
            <a:r>
              <a:rPr b="0" i="1" lang="gl-ES" sz="2400" spc="-1" strike="noStrike">
                <a:solidFill>
                  <a:srgbClr val="000000"/>
                </a:solidFill>
                <a:latin typeface="Arial"/>
              </a:rPr>
              <a:t>mobile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): automóbil, mobi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aleiro/</a:t>
            </a:r>
            <a:r>
              <a:rPr b="0" lang="gl-ES" sz="32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gl-ES" sz="3200" spc="-1" strike="noStrike">
                <a:solidFill>
                  <a:srgbClr val="000000"/>
                </a:solidFill>
                <a:latin typeface="Arial"/>
              </a:rPr>
              <a:t>alde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1:54:07Z</dcterms:created>
  <dc:creator>beatriz Real pérez</dc:creator>
  <dc:description/>
  <dc:language>en-US</dc:language>
  <cp:lastModifiedBy>INF</cp:lastModifiedBy>
  <dcterms:modified xsi:type="dcterms:W3CDTF">2006-02-09T19:53:20Z</dcterms:modified>
  <cp:revision>4</cp:revision>
  <dc:subject/>
  <dc:title>Ortografía</dc:title>
</cp:coreProperties>
</file>