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3D1-742E-48B9-B3AC-6E669A44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319-CDAF-46B7-A982-85F9335F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DF7-EA9B-47AD-A386-CB211BF8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4E4-A7B9-4438-B27A-4531EEE0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805-77B6-4373-8935-506AC2FD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BD3-8E93-443F-847E-344B783C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E7F-B884-4B34-8C81-E3E44DE3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A81-7C0D-4B18-9D09-9103949E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9EB-5D68-4D60-8554-C056FF3E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E11-35A7-4099-A030-D9AF7281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08E-7B88-4C8B-8138-F49456B7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8CD-34CD-4454-BE5C-19744295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E709-75B7-40DB-B7AC-2620E6173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o dalgunhas graf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o 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nse con 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drienio, cuadrimotor, cuadriplicar, faldriqueira, lealdade, liberdade, margarida, padroado, renda, v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o 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nse con g palabras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vogar (anular), irrevogábel, mastigar, vigai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úns cultismos comezan polo grupo consonántico gn-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neis, gnomo, g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e 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 letra non existe na nosa lingua; non obstante certas palabras estranxeiras que aínda non están adaptadas ao sistema gráfico do galego, escríbense con 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kafkiano, káiser, kamikaze, karate, kiwi, anor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i, l, 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nse con i latino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ianqui, iate, iodo, ioga, iogur, iugoslavo, bo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se con l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mpola, apostilar, argola, atropelar, avasalar, belo, calo, camelo, casula, colar, crioulo, degolar, estaleiro, querela, rolo, selo, ta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se con ll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ntollo, bacallau, baralla, brillar, burbulla, cella, coello, mexillón, orgullo, palla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e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n levan 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scrición, circunscrición, descrición, ditongo, setentrional, sét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e s e d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íbese con s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biscoito, escavar, escéptico, escusa, esplendor, espolio, espremer, estender, estraño, Estremadura, lapis, mesquiño, sentinela, xasm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íbense con x /ks/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xhortar, éxodo, expropiar, extensión, extraer, extravagante, extremo, exuber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íbese con x: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adxacente, arxila, caxemira, clixé, cónxuxe, cornixa, enxalzar, exacular, graxa, haxís, pexorativo, subxugar, xeso, xema, xeo, xug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e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i algunhas palabras que levan z no canto de c, diante de e,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Zigzag, zigzagueante, z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13:07Z</dcterms:created>
  <dc:creator>INF</dc:creator>
  <dc:description/>
  <dc:language>en-US</dc:language>
  <cp:lastModifiedBy>Administrador</cp:lastModifiedBy>
  <dcterms:modified xsi:type="dcterms:W3CDTF">2008-04-09T10:55:49Z</dcterms:modified>
  <cp:revision>6</cp:revision>
  <dc:subject/>
  <dc:title>ortografía</dc:title>
</cp:coreProperties>
</file>