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8C1-3F6E-4B69-AE9A-B1754634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151-F879-441D-9D7C-83DC02BB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94C-BDB4-45C8-8AE0-43B4ECF4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644-999E-4059-B2E7-FE2BA581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CD3-B7F4-49C3-9791-102CB79D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746-CE01-4AA4-B2E5-9A25525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617-6974-43DA-A725-8DB5087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AA1-2DE6-466D-B538-BB5743DC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50E-8E5B-4F63-BED2-08667F55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0F0-1B99-4D55-8AAB-EC8B116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FEE-E776-4EC4-A663-BC7147B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CD8-A190-4B8D-88AA-CA253FD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0D2-34BB-49E5-A2E2-466913B3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ografía, algunhas terminació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852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-ncia, -nz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-zo, -z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-ción, -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-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-ie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has palabras rematadas 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nc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g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g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xil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ix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ix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x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atan en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z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p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vi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sever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i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rv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fe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an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estrofa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c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c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br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x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ng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n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índa que a maior parte das palabras que expresan acción rematan en –ción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has patrimoniais fano en  - z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doazón, trai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inacións –idade, -ie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03280" y="1125360"/>
          <a:ext cx="7283520" cy="619092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61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r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gac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ac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m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ar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orie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20:32:37Z</dcterms:created>
  <dc:creator>beatriz Real pérez</dc:creator>
  <dc:description/>
  <dc:language>en-US</dc:language>
  <cp:lastModifiedBy>INF</cp:lastModifiedBy>
  <dcterms:modified xsi:type="dcterms:W3CDTF">2006-02-10T16:47:43Z</dcterms:modified>
  <cp:revision>4</cp:revision>
  <dc:subject/>
  <dc:title>Ortografía</dc:title>
</cp:coreProperties>
</file>