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43C0-478E-4A91-BE0D-1DEAD1B9C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D928-4F77-44D3-94D9-0CFF9A0A1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273F-B5B3-41FB-A2D1-0A3F36D1C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0465-617F-4209-914A-ABA998EAD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C070-8172-49B0-A7F0-26643953D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CAFD-DE65-4702-A73A-BB90A7F82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9672-9FBA-4AC5-B547-A18639DC8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74DA-B7D6-4E4F-8591-F64875DD8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7700-A09D-4399-9210-7C3DE3A7E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BB62-4298-4E06-AFB9-24DDAEC5E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F511-3FB5-4E82-A692-AE64CF60C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31EC-3B29-47A1-A79A-201EAD02D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6E3D5-FAF6-44F9-B09C-FFDADBD8A2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197000"/>
            <a:ext cx="77724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 uso d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MAIÚSCUL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críbense con maiúscula inicial os seguintes cas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s-ES" sz="2800" spc="-1" strike="noStrike">
                <a:solidFill>
                  <a:srgbClr val="cc3300"/>
                </a:solidFill>
                <a:latin typeface="Arial"/>
              </a:rPr>
              <a:t>primeira letra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dun texto, dos </a:t>
            </a:r>
            <a:r>
              <a:rPr b="0" lang="es-ES" sz="2800" spc="-1" strike="noStrike">
                <a:solidFill>
                  <a:srgbClr val="cc3300"/>
                </a:solidFill>
                <a:latin typeface="Arial"/>
              </a:rPr>
              <a:t>títulos dos libros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e a que vai </a:t>
            </a:r>
            <a:r>
              <a:rPr b="0" lang="es-ES" sz="2800" spc="-1" strike="noStrike">
                <a:solidFill>
                  <a:srgbClr val="cc3300"/>
                </a:solidFill>
                <a:latin typeface="Arial"/>
              </a:rPr>
              <a:t>despois de punto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Os </a:t>
            </a:r>
            <a:r>
              <a:rPr b="0" lang="es-ES" sz="2800" spc="-1" strike="noStrike">
                <a:solidFill>
                  <a:srgbClr val="cc3300"/>
                </a:solidFill>
                <a:latin typeface="Arial"/>
              </a:rPr>
              <a:t>nomes propios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(de persoa, lugar, alcumes, animais…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O artigo que acompaña o nome dalgunhas poboacións: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A Coruña, O Barco</a:t>
            </a: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Os nomes comúns cando pasan a ser nomes propios: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Instituto de Educación Secundar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s </a:t>
            </a:r>
            <a:r>
              <a:rPr b="0" lang="es-ES" sz="2800" spc="-1" strike="noStrike">
                <a:solidFill>
                  <a:srgbClr val="cc3300"/>
                </a:solidFill>
                <a:latin typeface="Arial"/>
              </a:rPr>
              <a:t>abreviaturas de tratamento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Sra., D., Excm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549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Os nomes de </a:t>
            </a:r>
            <a:r>
              <a:rPr b="0" lang="es-ES" sz="3200" spc="-1" strike="noStrike">
                <a:solidFill>
                  <a:srgbClr val="cc3300"/>
                </a:solidFill>
                <a:latin typeface="Arial"/>
              </a:rPr>
              <a:t>institución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e os adxectivos que os acompañan: 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Real Academia Galeg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ubstantivos e adxectivos que forman parte do </a:t>
            </a:r>
            <a:r>
              <a:rPr b="0" lang="es-ES" sz="3200" spc="-1" strike="noStrike">
                <a:solidFill>
                  <a:srgbClr val="cc3300"/>
                </a:solidFill>
                <a:latin typeface="Arial"/>
              </a:rPr>
              <a:t>nome dunha fest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relixiosa, civil ou popular: 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Día das Letras Galeg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espois de </a:t>
            </a:r>
            <a:r>
              <a:rPr b="0" lang="es-ES" sz="3200" spc="-1" strike="noStrike">
                <a:solidFill>
                  <a:srgbClr val="cc3300"/>
                </a:solidFill>
                <a:latin typeface="Arial"/>
              </a:rPr>
              <a:t>signo de interrogación e exclamación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cando equivalen a pun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lgúns </a:t>
            </a:r>
            <a:r>
              <a:rPr b="0" lang="es-ES" sz="3200" spc="-1" strike="noStrike">
                <a:solidFill>
                  <a:srgbClr val="cc3300"/>
                </a:solidFill>
                <a:latin typeface="Arial"/>
              </a:rPr>
              <a:t>acrónimo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Serga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(Servicio Galego de Saúde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Os nomes de </a:t>
            </a:r>
            <a:r>
              <a:rPr b="0" lang="es-ES" sz="3200" spc="-1" strike="noStrike">
                <a:solidFill>
                  <a:srgbClr val="cc3300"/>
                </a:solidFill>
                <a:latin typeface="Arial"/>
              </a:rPr>
              <a:t>xerarquía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ou cargos importantes cando non van acompañados do antropónimo: 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o señor Direc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espois de </a:t>
            </a:r>
            <a:r>
              <a:rPr b="0" lang="es-ES" sz="3200" spc="-1" strike="noStrike">
                <a:solidFill>
                  <a:srgbClr val="cc3300"/>
                </a:solidFill>
                <a:latin typeface="Arial"/>
              </a:rPr>
              <a:t>dous punto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emprégase maiúscul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340000" y="2492280"/>
            <a:ext cx="6346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o saúdo das cart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as citas textua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ando o que segue forma en si mesmo un enunciado independen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Tamén se escriben con maiúscula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s siglas: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ONU, R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 numeración rom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s abreviaturas dos puntos cardina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Os pés dalgúns textos administrativos, como as instanci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SR. D. DIRECTOR DO IES DE SAB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3300"/>
                </a:solidFill>
                <a:latin typeface="Arial"/>
              </a:rPr>
              <a:t>Non 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e escriben con maiúscula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Os nomes das estacións do 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Os nomes dos me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Os días da sem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Os xentilic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Os nomes das notas musica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s abreviaturas do sistema métrico deci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15:08:45Z</dcterms:created>
  <dc:creator>INF</dc:creator>
  <dc:description/>
  <dc:language>en-US</dc:language>
  <cp:lastModifiedBy>INF</cp:lastModifiedBy>
  <dcterms:modified xsi:type="dcterms:W3CDTF">2006-02-10T15:30:00Z</dcterms:modified>
  <cp:revision>2</cp:revision>
  <dc:subject/>
  <dc:title>O uso das</dc:title>
</cp:coreProperties>
</file>