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AFA-3799-4162-9F4C-C054327A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CF2-F651-4153-A19C-4BA9D95F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4AE-78D9-427C-BE10-0908CEBC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907-1F70-4C4F-A661-8D2ED5E2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915-0080-49C8-A61C-2DF7A3E0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490-F1C7-4B08-99A6-4B7D0C67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37A-A87B-4EC8-994F-4CA73DF1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285-3C4D-446B-981E-CB3F1B40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8D2-9201-45C5-B175-A9376976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07F-C481-4315-9B48-3F93689C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FBF-6126-4204-94D5-441BE3F8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452-6119-4850-8E29-528842F5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C9E3-51CE-42C1-AD8B-D0AB1806D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8190000" y="79956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l@um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76040" y="1417680"/>
            <a:ext cx="59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Arial"/>
              </a:rPr>
              <a:t>La función de ofer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407880"/>
            <a:ext cx="3063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sociación de consumidores estaba preocupada. Cuando el precio del trigo era muy alto, muchos agricultores ofrecían trigo, pero cuando el precio era bajo, había muy pocos que quisieran vende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el precio era de 8.000 la tonelada, se ofrecían 9 millones de tonel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838080"/>
            <a:ext cx="0" cy="4496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533412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76000" y="5272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6760" y="136368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6760" y="762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296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960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el precio era 5.000, la oferta bajaba a 8.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2286000"/>
            <a:ext cx="3657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543800" y="2285640"/>
            <a:ext cx="0" cy="3048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5240" y="2286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429000"/>
            <a:ext cx="32767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162920" y="3429000"/>
            <a:ext cx="0" cy="1905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342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540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o si el precio bajaba a 2.000, la oferta se reducía a 5.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457200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943600" y="4571640"/>
            <a:ext cx="0" cy="762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5040" y="4572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07880"/>
            <a:ext cx="30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sociación de consumidores decidió llamar al mago de las finanz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838080"/>
            <a:ext cx="0" cy="4496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533412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76000" y="5272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6760" y="136368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6760" y="762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296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286000"/>
            <a:ext cx="3657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543800" y="2285640"/>
            <a:ext cx="0" cy="3048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5240" y="2286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429000"/>
            <a:ext cx="32767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162920" y="3429000"/>
            <a:ext cx="0" cy="1905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4360" y="342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457200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943600" y="4571640"/>
            <a:ext cx="0" cy="762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5040" y="4572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Wizard" descr=""/>
          <p:cNvPicPr/>
          <p:nvPr/>
        </p:nvPicPr>
        <p:blipFill>
          <a:blip r:embed="rId1"/>
          <a:stretch/>
        </p:blipFill>
        <p:spPr>
          <a:xfrm>
            <a:off x="0" y="3429000"/>
            <a:ext cx="256392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147636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ago dibujó una lí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30800" y="1523880"/>
            <a:ext cx="2552760" cy="3137040"/>
          </a:xfrm>
          <a:custGeom>
            <a:avLst/>
            <a:gdLst/>
            <a:ahLst/>
            <a:rect l="l" t="t" r="r" b="b"/>
            <a:pathLst>
              <a:path w="1608" h="1976">
                <a:moveTo>
                  <a:pt x="1608" y="0"/>
                </a:moveTo>
                <a:cubicBezTo>
                  <a:pt x="1572" y="140"/>
                  <a:pt x="1536" y="280"/>
                  <a:pt x="1464" y="480"/>
                </a:cubicBezTo>
                <a:cubicBezTo>
                  <a:pt x="1392" y="680"/>
                  <a:pt x="1264" y="1000"/>
                  <a:pt x="1176" y="1200"/>
                </a:cubicBezTo>
                <a:cubicBezTo>
                  <a:pt x="1088" y="1400"/>
                  <a:pt x="1056" y="1560"/>
                  <a:pt x="936" y="1680"/>
                </a:cubicBezTo>
                <a:cubicBezTo>
                  <a:pt x="816" y="1800"/>
                  <a:pt x="600" y="1872"/>
                  <a:pt x="456" y="1920"/>
                </a:cubicBezTo>
                <a:cubicBezTo>
                  <a:pt x="312" y="1968"/>
                  <a:pt x="144" y="1960"/>
                  <a:pt x="72" y="1968"/>
                </a:cubicBezTo>
                <a:cubicBezTo>
                  <a:pt x="0" y="1976"/>
                  <a:pt x="12" y="1972"/>
                  <a:pt x="24" y="1968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35920" y="11430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5248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que puso por nombre curva de 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330280"/>
            <a:ext cx="30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utilizó para predecir que cuando el precio fuera 3.000, se ofrecerían 7.000 tonel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4191120"/>
            <a:ext cx="28195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730920" y="419076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7160" y="41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6200" y="838080"/>
            <a:ext cx="0" cy="4496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533412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76000" y="5272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6760" y="136368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6760" y="762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296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2286000"/>
            <a:ext cx="3657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543800" y="2285640"/>
            <a:ext cx="0" cy="3048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5240" y="2286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3429000"/>
            <a:ext cx="32767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162920" y="3429000"/>
            <a:ext cx="0" cy="1905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4360" y="342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457200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3600" y="4571640"/>
            <a:ext cx="0" cy="762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5040" y="4572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30800" y="1523880"/>
            <a:ext cx="2552760" cy="3137040"/>
          </a:xfrm>
          <a:custGeom>
            <a:avLst/>
            <a:gdLst/>
            <a:ahLst/>
            <a:rect l="l" t="t" r="r" b="b"/>
            <a:pathLst>
              <a:path w="1608" h="1976">
                <a:moveTo>
                  <a:pt x="1608" y="0"/>
                </a:moveTo>
                <a:cubicBezTo>
                  <a:pt x="1572" y="140"/>
                  <a:pt x="1536" y="280"/>
                  <a:pt x="1464" y="480"/>
                </a:cubicBezTo>
                <a:cubicBezTo>
                  <a:pt x="1392" y="680"/>
                  <a:pt x="1264" y="1000"/>
                  <a:pt x="1176" y="1200"/>
                </a:cubicBezTo>
                <a:cubicBezTo>
                  <a:pt x="1088" y="1400"/>
                  <a:pt x="1056" y="1560"/>
                  <a:pt x="936" y="1680"/>
                </a:cubicBezTo>
                <a:cubicBezTo>
                  <a:pt x="816" y="1800"/>
                  <a:pt x="600" y="1872"/>
                  <a:pt x="456" y="1920"/>
                </a:cubicBezTo>
                <a:cubicBezTo>
                  <a:pt x="312" y="1968"/>
                  <a:pt x="144" y="1960"/>
                  <a:pt x="72" y="1968"/>
                </a:cubicBezTo>
                <a:cubicBezTo>
                  <a:pt x="0" y="1976"/>
                  <a:pt x="12" y="1972"/>
                  <a:pt x="24" y="1968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35920" y="11430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191120"/>
            <a:ext cx="28195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730920" y="419076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7160" y="41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86200" y="838080"/>
            <a:ext cx="0" cy="4496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5334120"/>
            <a:ext cx="4952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76000" y="5272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6760" y="136368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6760" y="762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296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286000"/>
            <a:ext cx="3657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543800" y="2285640"/>
            <a:ext cx="0" cy="3048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5240" y="2286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429000"/>
            <a:ext cx="32767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162920" y="3429000"/>
            <a:ext cx="0" cy="1905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342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57200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4571640"/>
            <a:ext cx="0" cy="762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5040" y="4572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30800" y="1523880"/>
            <a:ext cx="2552760" cy="3137040"/>
          </a:xfrm>
          <a:custGeom>
            <a:avLst/>
            <a:gdLst/>
            <a:ahLst/>
            <a:rect l="l" t="t" r="r" b="b"/>
            <a:pathLst>
              <a:path w="1608" h="1976">
                <a:moveTo>
                  <a:pt x="1608" y="0"/>
                </a:moveTo>
                <a:cubicBezTo>
                  <a:pt x="1572" y="140"/>
                  <a:pt x="1536" y="280"/>
                  <a:pt x="1464" y="480"/>
                </a:cubicBezTo>
                <a:cubicBezTo>
                  <a:pt x="1392" y="680"/>
                  <a:pt x="1264" y="1000"/>
                  <a:pt x="1176" y="1200"/>
                </a:cubicBezTo>
                <a:cubicBezTo>
                  <a:pt x="1088" y="1400"/>
                  <a:pt x="1056" y="1560"/>
                  <a:pt x="936" y="1680"/>
                </a:cubicBezTo>
                <a:cubicBezTo>
                  <a:pt x="816" y="1800"/>
                  <a:pt x="600" y="1872"/>
                  <a:pt x="456" y="1920"/>
                </a:cubicBezTo>
                <a:cubicBezTo>
                  <a:pt x="312" y="1968"/>
                  <a:pt x="144" y="1960"/>
                  <a:pt x="72" y="1968"/>
                </a:cubicBezTo>
                <a:cubicBezTo>
                  <a:pt x="0" y="1976"/>
                  <a:pt x="12" y="1972"/>
                  <a:pt x="24" y="1968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35920" y="11430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191120"/>
            <a:ext cx="28195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730920" y="419076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41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wizard1" descr=""/>
          <p:cNvPicPr/>
          <p:nvPr/>
        </p:nvPicPr>
        <p:blipFill>
          <a:blip r:embed="rId1"/>
          <a:stretch/>
        </p:blipFill>
        <p:spPr>
          <a:xfrm>
            <a:off x="77760" y="762120"/>
            <a:ext cx="297180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wizard2" descr=""/>
          <p:cNvPicPr/>
          <p:nvPr/>
        </p:nvPicPr>
        <p:blipFill>
          <a:blip r:embed="rId2"/>
          <a:stretch/>
        </p:blipFill>
        <p:spPr>
          <a:xfrm>
            <a:off x="76320" y="762120"/>
            <a:ext cx="2973240" cy="3886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57320" y="57913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Para volver al texto pulsar el botón “atrás” del naveg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2T04:53:53Z</dcterms:created>
  <dc:creator>Juan Carlos M. Coll</dc:creator>
  <dc:description/>
  <dc:language>en-US</dc:language>
  <cp:lastModifiedBy>Juan Carlos M. Coll</cp:lastModifiedBy>
  <dcterms:modified xsi:type="dcterms:W3CDTF">1999-09-25T19:11:19Z</dcterms:modified>
  <cp:revision>6</cp:revision>
  <dc:subject/>
  <dc:title>Sin título de diapositiva</dc:title>
</cp:coreProperties>
</file>