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EBC-237D-41A5-B02C-C9625E18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E4F-7151-41BE-AFC7-4495F95A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DF7-C3A1-4BCD-A2E8-BA334D61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C02-1C63-4D96-8556-2FC91C07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489-45C3-45EC-832C-3CDDDE65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855-56DF-4F60-B32A-79E45141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8A1-D6D6-4431-BE71-237EF51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83B-88C9-4B75-8BE5-3DC5997F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9B0-FFAE-4412-B0EF-D6D4CD6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F64-2BA5-42A2-8861-F5471E3A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563-EC39-4450-98FB-374C173F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67A-9807-4A65-94D9-96DCEE45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F74A-203D-40CF-8FA9-E0A91E809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8190000" y="79956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l@uma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84320" y="990720"/>
            <a:ext cx="52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La función de dem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35440" y="380880"/>
            <a:ext cx="45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rase una vez un país en el que el precio del trigo era de 8 mil euros la tone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838080"/>
            <a:ext cx="0" cy="4496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5334120"/>
            <a:ext cx="4953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42280" y="52722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3400" y="136368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2286000"/>
            <a:ext cx="8384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90920" y="2285640"/>
            <a:ext cx="0" cy="3048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3040" y="762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9600" y="5257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2360" y="2041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35440" y="914400"/>
            <a:ext cx="49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las familias consumían 2 millones de toneladas de trigo al a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35440" y="1447920"/>
            <a:ext cx="471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, el precio de la tonelada bajó a 5 mil euros y las familias decidieron comprar más, 4 millones  de tonel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3429000"/>
            <a:ext cx="16765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29000" y="3429000"/>
            <a:ext cx="0" cy="1905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4120" y="3108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284560"/>
            <a:ext cx="471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cuando el precio bajó mucho, hasta 2 mil euros, el consumo aumentó muchísimo, a 10 millones de tonel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4572000"/>
            <a:ext cx="40388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791320" y="4571640"/>
            <a:ext cx="0" cy="762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52440" y="42512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Wizard" descr=""/>
          <p:cNvPicPr/>
          <p:nvPr/>
        </p:nvPicPr>
        <p:blipFill>
          <a:blip r:embed="rId1"/>
          <a:stretch/>
        </p:blipFill>
        <p:spPr>
          <a:xfrm>
            <a:off x="0" y="2971800"/>
            <a:ext cx="25639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838080"/>
            <a:ext cx="0" cy="4496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34120"/>
            <a:ext cx="4953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42280" y="52722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3400" y="136368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2286000"/>
            <a:ext cx="8384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90920" y="2285640"/>
            <a:ext cx="0" cy="3048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3040" y="762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9600" y="5257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2360" y="2041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3429000"/>
            <a:ext cx="16765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429000" y="3429000"/>
            <a:ext cx="0" cy="1905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4120" y="3108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191120"/>
            <a:ext cx="28958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597560" y="4190760"/>
            <a:ext cx="0" cy="11430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86040" y="3870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4572000"/>
            <a:ext cx="40388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791320" y="4571640"/>
            <a:ext cx="0" cy="762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52440" y="42512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1760" y="64620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asociación de jóvenes agricultores contrató a un famoso m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118728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s finanzas para que predijese el comportamiento futuro de los consumi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ago dibujó unas líneas cabalís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752480"/>
            <a:ext cx="3809880" cy="2895840"/>
          </a:xfrm>
          <a:custGeom>
            <a:avLst/>
            <a:gdLst/>
            <a:ahLst/>
            <a:rect l="l" t="t" r="r" b="b"/>
            <a:pathLst>
              <a:path w="2400" h="1824">
                <a:moveTo>
                  <a:pt x="0" y="0"/>
                </a:moveTo>
                <a:cubicBezTo>
                  <a:pt x="16" y="80"/>
                  <a:pt x="32" y="160"/>
                  <a:pt x="144" y="336"/>
                </a:cubicBezTo>
                <a:cubicBezTo>
                  <a:pt x="256" y="512"/>
                  <a:pt x="456" y="856"/>
                  <a:pt x="672" y="1056"/>
                </a:cubicBezTo>
                <a:cubicBezTo>
                  <a:pt x="888" y="1256"/>
                  <a:pt x="1192" y="1416"/>
                  <a:pt x="1440" y="1536"/>
                </a:cubicBezTo>
                <a:cubicBezTo>
                  <a:pt x="1688" y="1656"/>
                  <a:pt x="2000" y="1728"/>
                  <a:pt x="2160" y="1776"/>
                </a:cubicBezTo>
                <a:cubicBezTo>
                  <a:pt x="2320" y="1824"/>
                  <a:pt x="2360" y="1824"/>
                  <a:pt x="2400" y="1824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62640" y="2286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s que llamó curva de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83320" y="143208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2529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utilizó para predecir que si el precio era de 3 mil euros, se demandarían siete mil tonel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52480" y="838080"/>
            <a:ext cx="0" cy="4496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5334120"/>
            <a:ext cx="4953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2280" y="52722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3400" y="136368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2286000"/>
            <a:ext cx="8384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590920" y="2285640"/>
            <a:ext cx="0" cy="3048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3429000"/>
            <a:ext cx="16765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29000" y="3429000"/>
            <a:ext cx="0" cy="1905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4191120"/>
            <a:ext cx="28958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97560" y="4190760"/>
            <a:ext cx="0" cy="11430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572000"/>
            <a:ext cx="40388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91320" y="4571640"/>
            <a:ext cx="0" cy="762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1752480"/>
            <a:ext cx="3809880" cy="2895840"/>
          </a:xfrm>
          <a:custGeom>
            <a:avLst/>
            <a:gdLst/>
            <a:ahLst/>
            <a:rect l="l" t="t" r="r" b="b"/>
            <a:pathLst>
              <a:path w="2400" h="1824">
                <a:moveTo>
                  <a:pt x="0" y="0"/>
                </a:moveTo>
                <a:cubicBezTo>
                  <a:pt x="16" y="80"/>
                  <a:pt x="32" y="160"/>
                  <a:pt x="144" y="336"/>
                </a:cubicBezTo>
                <a:cubicBezTo>
                  <a:pt x="256" y="512"/>
                  <a:pt x="456" y="856"/>
                  <a:pt x="672" y="1056"/>
                </a:cubicBezTo>
                <a:cubicBezTo>
                  <a:pt x="888" y="1256"/>
                  <a:pt x="1192" y="1416"/>
                  <a:pt x="1440" y="1536"/>
                </a:cubicBezTo>
                <a:cubicBezTo>
                  <a:pt x="1688" y="1656"/>
                  <a:pt x="2000" y="1728"/>
                  <a:pt x="2160" y="1776"/>
                </a:cubicBezTo>
                <a:cubicBezTo>
                  <a:pt x="2320" y="1824"/>
                  <a:pt x="2360" y="1824"/>
                  <a:pt x="2400" y="1824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3040" y="762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9600" y="5257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2360" y="2041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4120" y="3108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86040" y="3870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2440" y="42512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83320" y="143208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52480" y="838080"/>
            <a:ext cx="0" cy="4496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5334120"/>
            <a:ext cx="4953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42280" y="52722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     2     3     4     5     6     7     8     9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3400" y="1363680"/>
            <a:ext cx="409320" cy="37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2286000"/>
            <a:ext cx="8384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90920" y="2285640"/>
            <a:ext cx="0" cy="3048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429000"/>
            <a:ext cx="167652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29000" y="3429000"/>
            <a:ext cx="0" cy="1905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191120"/>
            <a:ext cx="28958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597560" y="4190760"/>
            <a:ext cx="0" cy="11430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4572000"/>
            <a:ext cx="40388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91320" y="4571640"/>
            <a:ext cx="0" cy="762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1752480"/>
            <a:ext cx="3809880" cy="2895840"/>
          </a:xfrm>
          <a:custGeom>
            <a:avLst/>
            <a:gdLst/>
            <a:ahLst/>
            <a:rect l="l" t="t" r="r" b="b"/>
            <a:pathLst>
              <a:path w="2400" h="1824">
                <a:moveTo>
                  <a:pt x="0" y="0"/>
                </a:moveTo>
                <a:cubicBezTo>
                  <a:pt x="16" y="80"/>
                  <a:pt x="32" y="160"/>
                  <a:pt x="144" y="336"/>
                </a:cubicBezTo>
                <a:cubicBezTo>
                  <a:pt x="256" y="512"/>
                  <a:pt x="456" y="856"/>
                  <a:pt x="672" y="1056"/>
                </a:cubicBezTo>
                <a:cubicBezTo>
                  <a:pt x="888" y="1256"/>
                  <a:pt x="1192" y="1416"/>
                  <a:pt x="1440" y="1536"/>
                </a:cubicBezTo>
                <a:cubicBezTo>
                  <a:pt x="1688" y="1656"/>
                  <a:pt x="2000" y="1728"/>
                  <a:pt x="2160" y="1776"/>
                </a:cubicBezTo>
                <a:cubicBezTo>
                  <a:pt x="2320" y="1824"/>
                  <a:pt x="2360" y="1824"/>
                  <a:pt x="2400" y="1824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3040" y="762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9600" y="5257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2360" y="2041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4120" y="3108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040" y="3870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52440" y="42512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83320" y="143208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wizard1" descr=""/>
          <p:cNvPicPr/>
          <p:nvPr/>
        </p:nvPicPr>
        <p:blipFill>
          <a:blip r:embed="rId1"/>
          <a:stretch/>
        </p:blipFill>
        <p:spPr>
          <a:xfrm>
            <a:off x="4114800" y="0"/>
            <a:ext cx="2971800" cy="3886200"/>
          </a:xfrm>
          <a:prstGeom prst="rect">
            <a:avLst/>
          </a:prstGeom>
          <a:ln w="0">
            <a:noFill/>
          </a:ln>
        </p:spPr>
      </p:pic>
      <p:pic>
        <p:nvPicPr>
          <p:cNvPr id="128" name="wizard2" descr=""/>
          <p:cNvPicPr/>
          <p:nvPr/>
        </p:nvPicPr>
        <p:blipFill>
          <a:blip r:embed="rId2"/>
          <a:stretch/>
        </p:blipFill>
        <p:spPr>
          <a:xfrm>
            <a:off x="4113360" y="0"/>
            <a:ext cx="2973240" cy="3886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57320" y="57913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Para volver al texto pulsar el botón “atrás” del naveg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2T04:04:38Z</dcterms:created>
  <dc:creator>Juan Carlos M. Coll</dc:creator>
  <dc:description/>
  <dc:language>en-US</dc:language>
  <cp:lastModifiedBy>Juan Carlos M. Coll</cp:lastModifiedBy>
  <dcterms:modified xsi:type="dcterms:W3CDTF">1999-09-25T18:50:37Z</dcterms:modified>
  <cp:revision>11</cp:revision>
  <dc:subject/>
  <dc:title>Sin título de diapositiva</dc:title>
</cp:coreProperties>
</file>