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EC8-646F-4B14-A544-0DEA88BB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B55-FE3D-47AE-8AAE-14932D36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65E-CFFB-40D9-BF83-32D39ECC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E70-FBFC-4458-8753-55EF6CC1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5BA-57D5-46BA-8ED9-F1A92F70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18C-E50B-41DB-A7A1-062A875E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1CF-E01D-4983-BF52-214A7AE4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C7A-6916-4210-AF82-A65104E1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30E-92E9-45B5-A11C-0745D4BA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E20-69C4-4170-88EB-3984D6AF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58F-613E-4C2D-B080-54C85950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F23-B2B7-4A43-AFF8-FE9B7C43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74E2-0D25-406E-8256-B6ACA9936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8190000" y="79956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l@uma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1522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ff"/>
                </a:solidFill>
                <a:latin typeface="Arial"/>
              </a:rPr>
              <a:t>El equilibrio en el mercado de libre competenc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izard1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29718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wizard2" descr=""/>
          <p:cNvPicPr/>
          <p:nvPr/>
        </p:nvPicPr>
        <p:blipFill>
          <a:blip r:embed="rId2"/>
          <a:stretch/>
        </p:blipFill>
        <p:spPr>
          <a:xfrm>
            <a:off x="1979640" y="2514600"/>
            <a:ext cx="2973240" cy="388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4876920" y="3809880"/>
            <a:ext cx="4038480" cy="1447920"/>
          </a:xfrm>
          <a:prstGeom prst="wedgeEllipseCallout">
            <a:avLst>
              <a:gd name="adj1" fmla="val -73152"/>
              <a:gd name="adj2" fmla="val 3311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¡Quitad l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manos de ahí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828800"/>
            <a:ext cx="0" cy="4495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324480"/>
            <a:ext cx="4952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51560" y="626256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2680" y="235440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2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8880" y="6248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2514600"/>
            <a:ext cx="2552760" cy="3137040"/>
          </a:xfrm>
          <a:custGeom>
            <a:avLst/>
            <a:gdLst/>
            <a:ahLst/>
            <a:rect l="l" t="t" r="r" b="b"/>
            <a:pathLst>
              <a:path w="1608" h="1976">
                <a:moveTo>
                  <a:pt x="1608" y="0"/>
                </a:moveTo>
                <a:cubicBezTo>
                  <a:pt x="1572" y="140"/>
                  <a:pt x="1536" y="280"/>
                  <a:pt x="1464" y="480"/>
                </a:cubicBezTo>
                <a:cubicBezTo>
                  <a:pt x="1392" y="680"/>
                  <a:pt x="1264" y="1000"/>
                  <a:pt x="1176" y="1200"/>
                </a:cubicBezTo>
                <a:cubicBezTo>
                  <a:pt x="1088" y="1400"/>
                  <a:pt x="1056" y="1560"/>
                  <a:pt x="936" y="1680"/>
                </a:cubicBezTo>
                <a:cubicBezTo>
                  <a:pt x="816" y="1800"/>
                  <a:pt x="600" y="1872"/>
                  <a:pt x="456" y="1920"/>
                </a:cubicBezTo>
                <a:cubicBezTo>
                  <a:pt x="312" y="1968"/>
                  <a:pt x="144" y="1960"/>
                  <a:pt x="72" y="1968"/>
                </a:cubicBezTo>
                <a:cubicBezTo>
                  <a:pt x="0" y="1976"/>
                  <a:pt x="12" y="1972"/>
                  <a:pt x="24" y="1968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21337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2743200"/>
            <a:ext cx="3809880" cy="2895480"/>
          </a:xfrm>
          <a:custGeom>
            <a:avLst/>
            <a:gdLst/>
            <a:ahLst/>
            <a:rect l="l" t="t" r="r" b="b"/>
            <a:pathLst>
              <a:path w="2400" h="1824">
                <a:moveTo>
                  <a:pt x="0" y="0"/>
                </a:moveTo>
                <a:cubicBezTo>
                  <a:pt x="16" y="80"/>
                  <a:pt x="32" y="160"/>
                  <a:pt x="144" y="336"/>
                </a:cubicBezTo>
                <a:cubicBezTo>
                  <a:pt x="256" y="512"/>
                  <a:pt x="456" y="856"/>
                  <a:pt x="672" y="1056"/>
                </a:cubicBezTo>
                <a:cubicBezTo>
                  <a:pt x="888" y="1256"/>
                  <a:pt x="1192" y="1416"/>
                  <a:pt x="1440" y="1536"/>
                </a:cubicBezTo>
                <a:cubicBezTo>
                  <a:pt x="1688" y="1656"/>
                  <a:pt x="2000" y="1728"/>
                  <a:pt x="2160" y="1776"/>
                </a:cubicBezTo>
                <a:cubicBezTo>
                  <a:pt x="2320" y="1824"/>
                  <a:pt x="2360" y="1824"/>
                  <a:pt x="2400" y="1824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2600" y="24224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22860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rase un rey bondadoso que quería hacer felices a sus súbditos, agricultores y consumidores, para lo que consultó a un mago adivino qué precio debía ordenar que tuviera el trigo y qué cantidad de trigo debía ordenar que se fabri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Wizard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2563560" cy="335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86400" y="196524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mago dibujó las curvas de oferta y de demanda de trigo de aquel re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879640"/>
            <a:ext cx="320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, tras consultar las fuerzas ocultas del mercado, dijo al r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ara que tus súbditos sean felices, no debes dar ninguna o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3619440" y="5181120"/>
            <a:ext cx="0" cy="11430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181480"/>
            <a:ext cx="2895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828800"/>
            <a:ext cx="0" cy="4495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6324480"/>
            <a:ext cx="4952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51560" y="626256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2680" y="235440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2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8880" y="6248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2514600"/>
            <a:ext cx="2552760" cy="3137040"/>
          </a:xfrm>
          <a:custGeom>
            <a:avLst/>
            <a:gdLst/>
            <a:ahLst/>
            <a:rect l="l" t="t" r="r" b="b"/>
            <a:pathLst>
              <a:path w="1608" h="1976">
                <a:moveTo>
                  <a:pt x="1608" y="0"/>
                </a:moveTo>
                <a:cubicBezTo>
                  <a:pt x="1572" y="140"/>
                  <a:pt x="1536" y="280"/>
                  <a:pt x="1464" y="480"/>
                </a:cubicBezTo>
                <a:cubicBezTo>
                  <a:pt x="1392" y="680"/>
                  <a:pt x="1264" y="1000"/>
                  <a:pt x="1176" y="1200"/>
                </a:cubicBezTo>
                <a:cubicBezTo>
                  <a:pt x="1088" y="1400"/>
                  <a:pt x="1056" y="1560"/>
                  <a:pt x="936" y="1680"/>
                </a:cubicBezTo>
                <a:cubicBezTo>
                  <a:pt x="816" y="1800"/>
                  <a:pt x="600" y="1872"/>
                  <a:pt x="456" y="1920"/>
                </a:cubicBezTo>
                <a:cubicBezTo>
                  <a:pt x="312" y="1968"/>
                  <a:pt x="144" y="1960"/>
                  <a:pt x="72" y="1968"/>
                </a:cubicBezTo>
                <a:cubicBezTo>
                  <a:pt x="0" y="1976"/>
                  <a:pt x="12" y="1972"/>
                  <a:pt x="24" y="1968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1337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2743200"/>
            <a:ext cx="3809880" cy="2895480"/>
          </a:xfrm>
          <a:custGeom>
            <a:avLst/>
            <a:gdLst/>
            <a:ahLst/>
            <a:rect l="l" t="t" r="r" b="b"/>
            <a:pathLst>
              <a:path w="2400" h="1824">
                <a:moveTo>
                  <a:pt x="0" y="0"/>
                </a:moveTo>
                <a:cubicBezTo>
                  <a:pt x="16" y="80"/>
                  <a:pt x="32" y="160"/>
                  <a:pt x="144" y="336"/>
                </a:cubicBezTo>
                <a:cubicBezTo>
                  <a:pt x="256" y="512"/>
                  <a:pt x="456" y="856"/>
                  <a:pt x="672" y="1056"/>
                </a:cubicBezTo>
                <a:cubicBezTo>
                  <a:pt x="888" y="1256"/>
                  <a:pt x="1192" y="1416"/>
                  <a:pt x="1440" y="1536"/>
                </a:cubicBezTo>
                <a:cubicBezTo>
                  <a:pt x="1688" y="1656"/>
                  <a:pt x="2000" y="1728"/>
                  <a:pt x="2160" y="1776"/>
                </a:cubicBezTo>
                <a:cubicBezTo>
                  <a:pt x="2320" y="1824"/>
                  <a:pt x="2360" y="1824"/>
                  <a:pt x="2400" y="1824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2600" y="24224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286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mejor precio del trigo es el que hace que la cantidad ofrecida y la cantidad demandada de trigo sean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822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ste reino resulta ser tres mil euros y siete mil toneladas. Esas cantidades se llamarán “punto de equilibri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95880" y="472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67652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el precio fuese superior al de equilibrio, por ejemplo, de 5.000 e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419720"/>
            <a:ext cx="3200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5909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agricultores fabricarían 8.000 tone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025880" y="4419360"/>
            <a:ext cx="0" cy="1904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438280" y="4419360"/>
            <a:ext cx="0" cy="1904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318456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los consumidores demandarían sólo 4.000 tone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409896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lo que quedarían 4.000 toneladas sin v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472428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los productores de trigo bajarían los precios para intentar vender m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367600">
            <a:off x="3084120" y="3463920"/>
            <a:ext cx="304560" cy="1447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4197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V="1">
            <a:off x="3619440" y="5181120"/>
            <a:ext cx="0" cy="11430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181480"/>
            <a:ext cx="2895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828800"/>
            <a:ext cx="0" cy="4495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6324480"/>
            <a:ext cx="4952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1560" y="626256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2680" y="235440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2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8880" y="6248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514600"/>
            <a:ext cx="2552760" cy="3137040"/>
          </a:xfrm>
          <a:custGeom>
            <a:avLst/>
            <a:gdLst/>
            <a:ahLst/>
            <a:rect l="l" t="t" r="r" b="b"/>
            <a:pathLst>
              <a:path w="1608" h="1976">
                <a:moveTo>
                  <a:pt x="1608" y="0"/>
                </a:moveTo>
                <a:cubicBezTo>
                  <a:pt x="1572" y="140"/>
                  <a:pt x="1536" y="280"/>
                  <a:pt x="1464" y="480"/>
                </a:cubicBezTo>
                <a:cubicBezTo>
                  <a:pt x="1392" y="680"/>
                  <a:pt x="1264" y="1000"/>
                  <a:pt x="1176" y="1200"/>
                </a:cubicBezTo>
                <a:cubicBezTo>
                  <a:pt x="1088" y="1400"/>
                  <a:pt x="1056" y="1560"/>
                  <a:pt x="936" y="1680"/>
                </a:cubicBezTo>
                <a:cubicBezTo>
                  <a:pt x="816" y="1800"/>
                  <a:pt x="600" y="1872"/>
                  <a:pt x="456" y="1920"/>
                </a:cubicBezTo>
                <a:cubicBezTo>
                  <a:pt x="312" y="1968"/>
                  <a:pt x="144" y="1960"/>
                  <a:pt x="72" y="1968"/>
                </a:cubicBezTo>
                <a:cubicBezTo>
                  <a:pt x="0" y="1976"/>
                  <a:pt x="12" y="1972"/>
                  <a:pt x="24" y="1968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21337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2743200"/>
            <a:ext cx="3809880" cy="2895480"/>
          </a:xfrm>
          <a:custGeom>
            <a:avLst/>
            <a:gdLst/>
            <a:ahLst/>
            <a:rect l="l" t="t" r="r" b="b"/>
            <a:pathLst>
              <a:path w="2400" h="1824">
                <a:moveTo>
                  <a:pt x="0" y="0"/>
                </a:moveTo>
                <a:cubicBezTo>
                  <a:pt x="16" y="80"/>
                  <a:pt x="32" y="160"/>
                  <a:pt x="144" y="336"/>
                </a:cubicBezTo>
                <a:cubicBezTo>
                  <a:pt x="256" y="512"/>
                  <a:pt x="456" y="856"/>
                  <a:pt x="672" y="1056"/>
                </a:cubicBezTo>
                <a:cubicBezTo>
                  <a:pt x="888" y="1256"/>
                  <a:pt x="1192" y="1416"/>
                  <a:pt x="1440" y="1536"/>
                </a:cubicBezTo>
                <a:cubicBezTo>
                  <a:pt x="1688" y="1656"/>
                  <a:pt x="2000" y="1728"/>
                  <a:pt x="2160" y="1776"/>
                </a:cubicBezTo>
                <a:cubicBezTo>
                  <a:pt x="2320" y="1824"/>
                  <a:pt x="2360" y="1824"/>
                  <a:pt x="2400" y="1824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2600" y="24224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95880" y="472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167652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cambio, si el precio fuese inferior al de equilibrio, por ejemplo, de 2.000 e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562720"/>
            <a:ext cx="4038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5909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agricultores fabricarían 5.000 tone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800600" y="5562720"/>
            <a:ext cx="0" cy="761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19520" y="5562720"/>
            <a:ext cx="0" cy="761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18456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los consumidores demandarían 10.000 tone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380988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lo que estarían demandando 5.000 toneladas más de las producid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472428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los productores de trigo subirían los precios para intentar obtener más benefi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 rot="16228200">
            <a:off x="3620520" y="4835880"/>
            <a:ext cx="376200" cy="1828800"/>
          </a:xfrm>
          <a:custGeom>
            <a:avLst/>
            <a:gdLst>
              <a:gd name="textAreaLeft" fmla="*/ 240480 w 376200"/>
              <a:gd name="textAreaRight" fmla="*/ 376560 w 376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4197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181480"/>
            <a:ext cx="228600" cy="381240"/>
          </a:xfrm>
          <a:prstGeom prst="upArrow">
            <a:avLst>
              <a:gd name="adj1" fmla="val 50000"/>
              <a:gd name="adj2" fmla="val 4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3619440" y="5181120"/>
            <a:ext cx="0" cy="11430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181480"/>
            <a:ext cx="2895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1828800"/>
            <a:ext cx="0" cy="4495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6324480"/>
            <a:ext cx="4952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51560" y="626256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235440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2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8880" y="6248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514600"/>
            <a:ext cx="2552760" cy="3137040"/>
          </a:xfrm>
          <a:custGeom>
            <a:avLst/>
            <a:gdLst/>
            <a:ahLst/>
            <a:rect l="l" t="t" r="r" b="b"/>
            <a:pathLst>
              <a:path w="1608" h="1976">
                <a:moveTo>
                  <a:pt x="1608" y="0"/>
                </a:moveTo>
                <a:cubicBezTo>
                  <a:pt x="1572" y="140"/>
                  <a:pt x="1536" y="280"/>
                  <a:pt x="1464" y="480"/>
                </a:cubicBezTo>
                <a:cubicBezTo>
                  <a:pt x="1392" y="680"/>
                  <a:pt x="1264" y="1000"/>
                  <a:pt x="1176" y="1200"/>
                </a:cubicBezTo>
                <a:cubicBezTo>
                  <a:pt x="1088" y="1400"/>
                  <a:pt x="1056" y="1560"/>
                  <a:pt x="936" y="1680"/>
                </a:cubicBezTo>
                <a:cubicBezTo>
                  <a:pt x="816" y="1800"/>
                  <a:pt x="600" y="1872"/>
                  <a:pt x="456" y="1920"/>
                </a:cubicBezTo>
                <a:cubicBezTo>
                  <a:pt x="312" y="1968"/>
                  <a:pt x="144" y="1960"/>
                  <a:pt x="72" y="1968"/>
                </a:cubicBezTo>
                <a:cubicBezTo>
                  <a:pt x="0" y="1976"/>
                  <a:pt x="12" y="1972"/>
                  <a:pt x="24" y="1968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743200"/>
            <a:ext cx="3809880" cy="2895480"/>
          </a:xfrm>
          <a:custGeom>
            <a:avLst/>
            <a:gdLst/>
            <a:ahLst/>
            <a:rect l="l" t="t" r="r" b="b"/>
            <a:pathLst>
              <a:path w="2400" h="1824">
                <a:moveTo>
                  <a:pt x="0" y="0"/>
                </a:moveTo>
                <a:cubicBezTo>
                  <a:pt x="16" y="80"/>
                  <a:pt x="32" y="160"/>
                  <a:pt x="144" y="336"/>
                </a:cubicBezTo>
                <a:cubicBezTo>
                  <a:pt x="256" y="512"/>
                  <a:pt x="456" y="856"/>
                  <a:pt x="672" y="1056"/>
                </a:cubicBezTo>
                <a:cubicBezTo>
                  <a:pt x="888" y="1256"/>
                  <a:pt x="1192" y="1416"/>
                  <a:pt x="1440" y="1536"/>
                </a:cubicBezTo>
                <a:cubicBezTo>
                  <a:pt x="1688" y="1656"/>
                  <a:pt x="2000" y="1728"/>
                  <a:pt x="2160" y="1776"/>
                </a:cubicBezTo>
                <a:cubicBezTo>
                  <a:pt x="2320" y="1824"/>
                  <a:pt x="2360" y="1824"/>
                  <a:pt x="2400" y="1824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2600" y="24224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95880" y="472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4197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5181480"/>
            <a:ext cx="228600" cy="381240"/>
          </a:xfrm>
          <a:prstGeom prst="upArrow">
            <a:avLst>
              <a:gd name="adj1" fmla="val 50000"/>
              <a:gd name="adj2" fmla="val 4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65530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657600" y="65530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049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fuerzas del mercado empujarán a las cantidades producidas y demandadas a iguala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8985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el rey tiene que cumplir una condición: ¡Abstenerse de intervenir en el mercad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zard1" descr=""/>
          <p:cNvPicPr/>
          <p:nvPr/>
        </p:nvPicPr>
        <p:blipFill>
          <a:blip r:embed="rId1"/>
          <a:stretch/>
        </p:blipFill>
        <p:spPr>
          <a:xfrm>
            <a:off x="3811680" y="609480"/>
            <a:ext cx="297180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wizard2" descr=""/>
          <p:cNvPicPr/>
          <p:nvPr/>
        </p:nvPicPr>
        <p:blipFill>
          <a:blip r:embed="rId2"/>
          <a:stretch/>
        </p:blipFill>
        <p:spPr>
          <a:xfrm>
            <a:off x="3809880" y="609480"/>
            <a:ext cx="29736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3619440" y="5181120"/>
            <a:ext cx="0" cy="11430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181480"/>
            <a:ext cx="28954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828800"/>
            <a:ext cx="0" cy="4495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6324480"/>
            <a:ext cx="4952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1560" y="626256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2680" y="235440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2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58880" y="6248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514600"/>
            <a:ext cx="2552760" cy="3137040"/>
          </a:xfrm>
          <a:custGeom>
            <a:avLst/>
            <a:gdLst/>
            <a:ahLst/>
            <a:rect l="l" t="t" r="r" b="b"/>
            <a:pathLst>
              <a:path w="1608" h="1976">
                <a:moveTo>
                  <a:pt x="1608" y="0"/>
                </a:moveTo>
                <a:cubicBezTo>
                  <a:pt x="1572" y="140"/>
                  <a:pt x="1536" y="280"/>
                  <a:pt x="1464" y="480"/>
                </a:cubicBezTo>
                <a:cubicBezTo>
                  <a:pt x="1392" y="680"/>
                  <a:pt x="1264" y="1000"/>
                  <a:pt x="1176" y="1200"/>
                </a:cubicBezTo>
                <a:cubicBezTo>
                  <a:pt x="1088" y="1400"/>
                  <a:pt x="1056" y="1560"/>
                  <a:pt x="936" y="1680"/>
                </a:cubicBezTo>
                <a:cubicBezTo>
                  <a:pt x="816" y="1800"/>
                  <a:pt x="600" y="1872"/>
                  <a:pt x="456" y="1920"/>
                </a:cubicBezTo>
                <a:cubicBezTo>
                  <a:pt x="312" y="1968"/>
                  <a:pt x="144" y="1960"/>
                  <a:pt x="72" y="1968"/>
                </a:cubicBezTo>
                <a:cubicBezTo>
                  <a:pt x="0" y="1976"/>
                  <a:pt x="12" y="1972"/>
                  <a:pt x="24" y="1968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1337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2b2b2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743200"/>
            <a:ext cx="3809880" cy="2895480"/>
          </a:xfrm>
          <a:custGeom>
            <a:avLst/>
            <a:gdLst/>
            <a:ahLst/>
            <a:rect l="l" t="t" r="r" b="b"/>
            <a:pathLst>
              <a:path w="2400" h="1824">
                <a:moveTo>
                  <a:pt x="0" y="0"/>
                </a:moveTo>
                <a:cubicBezTo>
                  <a:pt x="16" y="80"/>
                  <a:pt x="32" y="160"/>
                  <a:pt x="144" y="336"/>
                </a:cubicBezTo>
                <a:cubicBezTo>
                  <a:pt x="256" y="512"/>
                  <a:pt x="456" y="856"/>
                  <a:pt x="672" y="1056"/>
                </a:cubicBezTo>
                <a:cubicBezTo>
                  <a:pt x="888" y="1256"/>
                  <a:pt x="1192" y="1416"/>
                  <a:pt x="1440" y="1536"/>
                </a:cubicBezTo>
                <a:cubicBezTo>
                  <a:pt x="1688" y="1656"/>
                  <a:pt x="2000" y="1728"/>
                  <a:pt x="2160" y="1776"/>
                </a:cubicBezTo>
                <a:cubicBezTo>
                  <a:pt x="2320" y="1824"/>
                  <a:pt x="2360" y="1824"/>
                  <a:pt x="2400" y="1824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92600" y="24224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2b2b2"/>
                </a:solidFill>
                <a:latin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95880" y="472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4197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181480"/>
            <a:ext cx="228600" cy="381240"/>
          </a:xfrm>
          <a:prstGeom prst="upArrow">
            <a:avLst>
              <a:gd name="adj1" fmla="val 50000"/>
              <a:gd name="adj2" fmla="val 4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65530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657600" y="655308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81000" y="3049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Para volver al texto pulsar el botón “atrás” del naveg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5880" y="3733920"/>
            <a:ext cx="2819520" cy="2133360"/>
          </a:xfrm>
          <a:prstGeom prst="wedgeEllipseCallout">
            <a:avLst>
              <a:gd name="adj1" fmla="val -73087"/>
              <a:gd name="adj2" fmla="val 12715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¡Que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uerzas 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ercado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compañ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2T05:12:20Z</dcterms:created>
  <dc:creator>Juan Carlos M. Coll</dc:creator>
  <dc:description/>
  <dc:language>en-US</dc:language>
  <cp:lastModifiedBy>Juan Carlos M. Coll</cp:lastModifiedBy>
  <dcterms:modified xsi:type="dcterms:W3CDTF">1999-09-26T10:00:32Z</dcterms:modified>
  <cp:revision>3</cp:revision>
  <dc:subject/>
  <dc:title>Sin título de diapositiva</dc:title>
</cp:coreProperties>
</file>